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C64-A025-4E2B-8DEC-E010D32D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ACB-B7E3-4E51-8B92-0021C03F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A27F-461D-414C-9A07-EDF14C7E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E0C-ECA6-472C-86F2-592C1ABE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5CEF9-9B05-4889-B29D-288728171A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904F9-5643-49C2-AF45-AC704D3D6B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CEA92-B0A4-4838-8AD1-AFC1474C27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524F0-D92E-4AC5-9D62-9A690AD447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9249A-7772-4592-9FC7-9F3F794056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0F756-8191-4E1C-90D1-B3B40A8CE7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AF02B-C1EC-41E0-BD68-8EF790DA5F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5C1F-083A-460C-8BF0-D58D0379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DF2B5-C81D-456F-AA83-6C8F23620B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870E6-4A9C-42B6-98CC-A382EE065F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48187-3699-4E57-939E-22052B781F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1517B-C210-4EF2-82BC-DB774F15A6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90912-0F4E-4989-8047-362C7CE1C7A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46A7-109B-4922-9FF2-FA72F68470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C032-9D53-4755-8808-758EB34A44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5EA4-5D85-4C1B-AC93-53A8511B69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CC3A-1924-4024-A539-AB07981822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71FF-5E96-4AB0-8A44-393FB88DC5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657-E5B0-4FD0-A9A6-82F1F81E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F194-C236-45F9-983B-0F4F413F41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B986-CDA9-4DC9-9E1A-B35488555C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63E4-0E27-4908-AB5F-A78332CF93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F487-26D0-44E5-9017-0CBC0D49E8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5A2D-4023-4F72-9167-F6F958A0EA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22DB-82BF-448A-B680-727FC0A71F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1AE1-6055-4A3E-B54C-B51E551125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7CB759-EE85-4C92-B098-6C477E4EE5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ABF408-F55D-4E34-A986-D16CAD59D4C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0A1BE4-B249-4965-B91A-CF75D95F9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BC1-FD9C-486D-B513-A66519F2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3A11A2-F8AA-4F8D-A52E-2B0075956F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AF2943-41C2-4D21-AEB7-7FACD2E2E0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6EA6B2-B4A5-4A8A-A73E-46B0596B98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028DD8-DB8B-41A1-A3CC-B019A22006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F1CAD1-BD33-410C-8321-54DD5D6F37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BD0832-0B25-446A-AF33-97235A7D86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7A83CC-8441-42A9-A173-C8C5A3AD9A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643454-BF7D-4A7E-95A7-A75D6C30C4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29E91D-87A2-4EC9-97ED-355B069EB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8EDA-CA4C-4DA0-B264-EEE8F5E9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8A2-843D-423B-A55A-15D42F8E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954-7EC3-4791-92AE-40C94BDD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471-1527-4C5A-96D4-C506803D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F260-A79C-4B69-98A3-D0B63706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4764-AC0B-4E25-907A-A0BBF85F18D0}" type="datetime">
              <a:rPr b="0" lang="zh-TW" sz="1200" spc="-1" strike="noStrike">
                <a:solidFill>
                  <a:srgbClr val="898989"/>
                </a:solidFill>
                <a:latin typeface="Calibri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F94A-7615-4898-A92B-73A98E23ABDA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圖片 6" descr=""/>
          <p:cNvPicPr/>
          <p:nvPr/>
        </p:nvPicPr>
        <p:blipFill>
          <a:blip r:embed="rId2"/>
          <a:stretch/>
        </p:blipFill>
        <p:spPr>
          <a:xfrm>
            <a:off x="7858080" y="428760"/>
            <a:ext cx="118764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6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9BEA-7270-4FB2-BC6C-7423D1D7B334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圖片 6" descr=""/>
          <p:cNvPicPr/>
          <p:nvPr/>
        </p:nvPicPr>
        <p:blipFill>
          <a:blip r:embed="rId2"/>
          <a:stretch/>
        </p:blipFill>
        <p:spPr>
          <a:xfrm>
            <a:off x="8215200" y="6143760"/>
            <a:ext cx="873360" cy="630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6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BB3D-0260-431A-A7B2-55F545AEF75C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7"/>
          </p:nvPr>
        </p:nvSpPr>
        <p:spPr>
          <a:xfrm>
            <a:off x="6867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C449-93D4-47B3-B52F-27C04CB2EE50}" type="slidenum">
              <a:rPr b="0" lang="zh-TW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280" y="2214720"/>
            <a:ext cx="900144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esolution 1:</a:t>
            </a:r>
            <a:br>
              <a:rPr sz="3600"/>
            </a:b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Adoption of the Proposed AHWP House Rules</a:t>
            </a:r>
            <a:br>
              <a:rPr sz="3600"/>
            </a:br>
            <a:br>
              <a:rPr sz="4000"/>
            </a:br>
            <a:r>
              <a:rPr b="1" i="1" lang="en-US" sz="2800" spc="-1" strike="noStrike">
                <a:solidFill>
                  <a:srgbClr val="984807"/>
                </a:solidFill>
                <a:latin typeface="Calibri"/>
              </a:rPr>
              <a:t>15</a:t>
            </a:r>
            <a:r>
              <a:rPr b="1" i="1" lang="en-US" sz="2800" spc="-1" strike="noStrike" baseline="30000">
                <a:solidFill>
                  <a:srgbClr val="984807"/>
                </a:solidFill>
                <a:latin typeface="Calibri"/>
              </a:rPr>
              <a:t>th</a:t>
            </a:r>
            <a:r>
              <a:rPr b="1" i="1" lang="en-US" sz="2800" spc="-1" strike="noStrike">
                <a:solidFill>
                  <a:srgbClr val="984807"/>
                </a:solidFill>
                <a:latin typeface="Calibri"/>
              </a:rPr>
              <a:t> AHWP Meeting</a:t>
            </a:r>
            <a:br>
              <a:rPr sz="2800"/>
            </a:br>
            <a:r>
              <a:rPr b="1" i="1" lang="en-US" sz="2800" spc="-1" strike="noStrike">
                <a:solidFill>
                  <a:srgbClr val="984807"/>
                </a:solidFill>
                <a:latin typeface="Calibri"/>
              </a:rPr>
              <a:t>30 Dec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投影片編號版面配置區 4"/>
          <p:cNvSpPr/>
          <p:nvPr/>
        </p:nvSpPr>
        <p:spPr>
          <a:xfrm>
            <a:off x="6867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7A52-69D0-4F60-AC07-EB41D94777A9}" type="slidenum">
              <a:rPr b="0" lang="zh-TW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3571920" y="785880"/>
            <a:ext cx="1962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supplement the Terms of Re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ablishing requirements, procedures and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rms of Reference will prevail in case of confli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BD5B-FBEE-4698-AE7B-20AFA951CF53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equirements of the AHWP Chair and Vice- chai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Nominations and Elections of the AHWP Chair/Vice-chai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equirements of the AHWPTC Chair/Co-chai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Nominations and Elections of the AHWPTC Chair/Co-chai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oles and Responsibilities of the Secretari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ppointment of the Secretariat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pplications for Joining AHW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689E-9A3B-4FF7-B124-D09FE793CB32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Contents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(cont’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ppointments of AHWP and AHWPTC Representa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Upkeep of Members and Representatives Recor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Hosting AHWP and AHWPTC Meet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anagement of the AHWP Account and Reser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anagement of the AHWP Websi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reparation of Documents for Committees, Working Groups, Special Task Groups and Secretari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roposing Issues For Discussion in AHWP Meet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roposing Resolutions in AHWP Meet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B2E0-6637-454B-A5C4-C05E0A4B7500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28880" y="2857320"/>
            <a:ext cx="5500800" cy="1143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9AD9-C2EA-4975-82F8-905825E8A5FB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28880" y="2642760"/>
            <a:ext cx="5500800" cy="13575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Yes / N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投影片編號版面配置區 3"/>
          <p:cNvSpPr/>
          <p:nvPr/>
        </p:nvSpPr>
        <p:spPr>
          <a:xfrm>
            <a:off x="4000680" y="6500880"/>
            <a:ext cx="1071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03C3-F438-43DC-AB81-A13D41B4A3DF}" type="slidenum">
              <a:rPr b="1" lang="zh-TW" sz="16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04:11:46Z</dcterms:created>
  <dc:creator>LENOVO USER</dc:creator>
  <dc:description/>
  <dc:language>en-US</dc:language>
  <cp:lastModifiedBy>W K Lau</cp:lastModifiedBy>
  <dcterms:modified xsi:type="dcterms:W3CDTF">2010-11-25T08:33:43Z</dcterms:modified>
  <cp:revision>141</cp:revision>
  <dc:subject/>
  <dc:title>投影片 1</dc:title>
</cp:coreProperties>
</file>