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717-D407-4D98-8A63-47AB24F0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9FA-1710-4418-A812-994C34DA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DA4-96E2-453D-9E8B-E470AADB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307-651A-444B-BE35-D29F3285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FE162-262F-49BC-A737-2094479CD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F4292-8240-4A1D-9BA3-5574A2E89F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B6B80-E2D1-42BD-ADE5-DE8F9B9DED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38C2-19D7-4F89-8AA5-567676AD76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D4B12-F068-42BE-BE33-CF0988E763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173D1-80B9-4ACD-9FA2-BE1CE0854F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67B92-CDDF-4705-87DE-EA488220F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1B2-B676-46E1-9832-6F1EAECD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2242D-58AA-460B-B85A-BC8FCEB5A0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0E4ED-BCF8-4FA5-9A48-897918B862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8B0AC-F0D0-4E4D-BC13-B906ACD19B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9E85B-60DD-4E87-BE8A-A5897A6948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63FB2-14D9-4971-97EB-AED43FD62E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A635-997B-47B4-96A5-5B6D1A34BA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A026-7E3F-4013-9A14-CC5B0E9189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BDE5-5381-47D4-AB3E-C1D2DE17D5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119-7321-4073-BA75-78FE249DB8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E819-664A-474A-B9EE-2DB116DB1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97C-4D8E-4A90-9236-E1F0834C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D129-07C7-4DA9-8509-0988A1DD38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1D9C-145A-4F9A-AB80-AECC7474D0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3262-B54F-434F-B066-8306EB8114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1A8C-77AE-4375-A79E-11D8A92279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33DC-BAFE-4342-8DB1-AA00832913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F523-52D1-4B91-BEA0-11D5240C31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EFFE-AD3B-4E21-ABEA-50CA177D6C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E3E90-0990-4642-9CE5-3BAC24690A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F43FA-8A01-443E-83A1-8CA99A98B1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18E13-5ADE-4E22-A516-CD30485C9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8F7-FF44-46E2-B105-90317566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723E9-1EF4-4182-B5DF-2EAA769C01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DD6D1-74BF-4A25-BCDF-163B38E873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90F9C-5A7A-465C-A176-0CA21542F2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A9250-8D3A-4591-B2BA-0A4967A8B4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EDAC8-8EA2-4E40-8C67-509B5BB8D5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FC11D-2642-46C4-BB9D-6240F945BA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2C1A9-9398-434F-8372-85968E981E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8DCCD-2E84-40EC-B2AF-FF7C4538D7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5CDD3-26CA-4C5C-AB66-4EB62DBC1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33A-7D1A-429A-8681-7C670E08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77E-56D7-4BB1-AE36-F4AA816B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C00-F285-44FD-9231-7DB5E22C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632-F521-4C75-8C48-90552AF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11C-EBC7-4193-9348-A2868D0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6D04-1797-4DD0-A3F0-1102FF51896C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7EE0-0BCA-482A-80E6-5778477E97B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6" descr=""/>
          <p:cNvPicPr/>
          <p:nvPr/>
        </p:nvPicPr>
        <p:blipFill>
          <a:blip r:embed="rId2"/>
          <a:stretch/>
        </p:blipFill>
        <p:spPr>
          <a:xfrm>
            <a:off x="7858080" y="428760"/>
            <a:ext cx="118764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6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EDB-D0A1-45E9-A954-9EF1381A3E6F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圖片 6" descr=""/>
          <p:cNvPicPr/>
          <p:nvPr/>
        </p:nvPicPr>
        <p:blipFill>
          <a:blip r:embed="rId2"/>
          <a:stretch/>
        </p:blipFill>
        <p:spPr>
          <a:xfrm>
            <a:off x="8215200" y="6143760"/>
            <a:ext cx="873360" cy="63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6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183-2355-4606-8870-2EBF8BE07874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6867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A48-DB31-4F6E-8A34-8AA01DC90A0A}" type="slidenum">
              <a:rPr b="0" lang="zh-TW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ecretariat@ahwp.info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200" y="2214720"/>
            <a:ext cx="8715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AHWP Secretariat Report</a:t>
            </a:r>
            <a:br>
              <a:rPr sz="44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(by Hong Kong Branch)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984807"/>
                </a:solidFill>
                <a:latin typeface="Calibri"/>
              </a:rPr>
              <a:t>15</a:t>
            </a:r>
            <a:r>
              <a:rPr b="1" i="1" lang="en-US" sz="3200" spc="-1" strike="noStrike" baseline="30000">
                <a:solidFill>
                  <a:srgbClr val="984807"/>
                </a:solidFill>
                <a:latin typeface="Calibri"/>
              </a:rPr>
              <a:t>th</a:t>
            </a:r>
            <a:r>
              <a:rPr b="1" i="1" lang="en-US" sz="3200" spc="-1" strike="noStrike">
                <a:solidFill>
                  <a:srgbClr val="984807"/>
                </a:solidFill>
                <a:latin typeface="Calibri"/>
              </a:rPr>
              <a:t> AHWP Meeting</a:t>
            </a:r>
            <a:br>
              <a:rPr sz="3200"/>
            </a:br>
            <a:r>
              <a:rPr b="1" i="1" lang="en-US" sz="3200" spc="-1" strike="noStrike">
                <a:solidFill>
                  <a:srgbClr val="984807"/>
                </a:solidFill>
                <a:latin typeface="Calibri"/>
              </a:rPr>
              <a:t>Nov 27 – Dec 1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投影片編號版面配置區 4"/>
          <p:cNvSpPr/>
          <p:nvPr/>
        </p:nvSpPr>
        <p:spPr>
          <a:xfrm>
            <a:off x="6867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E287-5034-48B0-8440-9F7DEE5481B0}" type="slidenum">
              <a:rPr b="0" lang="zh-TW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71920" y="785880"/>
            <a:ext cx="196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Communication Plat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37CB-FDBD-4EF3-B350-D2F2016531F1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圖片 5" descr="Homepage.JPG"/>
          <p:cNvPicPr/>
          <p:nvPr/>
        </p:nvPicPr>
        <p:blipFill>
          <a:blip r:embed="rId1"/>
          <a:stretch/>
        </p:blipFill>
        <p:spPr>
          <a:xfrm>
            <a:off x="1214280" y="1484280"/>
            <a:ext cx="6597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On-Line Appl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398-6243-475C-B421-E3D6AC294556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圖片 4" descr="SADS on-line report.bmp"/>
          <p:cNvPicPr/>
          <p:nvPr/>
        </p:nvPicPr>
        <p:blipFill>
          <a:blip r:embed="rId1"/>
          <a:stretch/>
        </p:blipFill>
        <p:spPr>
          <a:xfrm>
            <a:off x="1285920" y="1557360"/>
            <a:ext cx="6526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raining Plat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20E-1252-4171-9274-0B48D5CE7F65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圖片 4" descr="Training material.JPG"/>
          <p:cNvPicPr/>
          <p:nvPr/>
        </p:nvPicPr>
        <p:blipFill>
          <a:blip r:embed="rId1"/>
          <a:stretch/>
        </p:blipFill>
        <p:spPr>
          <a:xfrm>
            <a:off x="1214280" y="1484280"/>
            <a:ext cx="66708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Year Plan 201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parent financial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Budgetary control procedures in the Hous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Yearly Financial Statement on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Approval of budget in AHWP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orporation of the AHWP Administration Services Lt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Recruitment of Founding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Development of the permanent secretari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81DF-24F1-4462-9B1C-1802759D7F7E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Year Plan 2011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499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On-Lin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ADS On-Line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ducation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ining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Workshops &amp; Workgroup Training  video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motion of AHW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Welcome new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16</a:t>
            </a:r>
            <a:r>
              <a:rPr b="1" lang="en-US" sz="2800" spc="-1" strike="noStrike" baseline="30000">
                <a:solidFill>
                  <a:srgbClr val="632523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 AHWP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13</a:t>
            </a:r>
            <a:r>
              <a:rPr b="1" lang="en-US" sz="2800" spc="-1" strike="noStrike" baseline="30000">
                <a:solidFill>
                  <a:srgbClr val="632523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 AHWPTC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4E51-DEA6-4806-96A7-F899D65DB9BB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Year Plan 2011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 contact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AHWP &amp; AHWPTC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Work Group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…</a:t>
            </a: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as needed by AHW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6A13-197E-4E91-AEF6-79EF80869155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28880" y="2857320"/>
            <a:ext cx="55008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6EF3-B525-4E66-B9D7-A493DC9EBDEC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oles &amp; Duti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ing meetings and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 of resolutions an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of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pare of meeting agendas and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of documents and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 AHWP f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date contact em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mote AHW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ail address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cretariat@ahwp.inf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04E-611B-4F87-996C-AC4836ED85EB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HWP Secretari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0FE-06FD-4425-BF37-78D954F7CC2F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1680" y="1571760"/>
          <a:ext cx="8072280" cy="4284360"/>
        </p:xfrm>
        <a:graphic>
          <a:graphicData uri="http://schemas.openxmlformats.org/drawingml/2006/table">
            <a:tbl>
              <a:tblPr/>
              <a:tblGrid>
                <a:gridCol w="2178000"/>
                <a:gridCol w="5894280"/>
              </a:tblGrid>
              <a:tr h="36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retary Genera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 Guobiao G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Food and Drug Administration,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9160">
                <a:tc gridSpan="2"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 Deputy Secretary Genera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Xuejun Z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na Association for Medical Device 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780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ed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 Jack WONG, BSI, Hong Kong SAR, Chin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 Bryan SO, Hong Kong Productivity Council, Hong Kong SAR,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uty Secretary Genera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 Huiqin 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Food and Drug Administration,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916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 Xiangyu 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Food and Drug Administration,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348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 Mark L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cal Device Control Office, Department of Health, Hong Kong SAR,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emb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499760"/>
            <a:ext cx="8247240" cy="27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09: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2010: 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Yem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3.5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51% of global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6A68-1E4B-4530-8FFD-EB156A7660D8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28760" y="4518000"/>
          <a:ext cx="8358120" cy="1143000"/>
        </p:xfrm>
        <a:graphic>
          <a:graphicData uri="http://schemas.openxmlformats.org/drawingml/2006/table">
            <a:tbl>
              <a:tblPr/>
              <a:tblGrid>
                <a:gridCol w="392040"/>
                <a:gridCol w="1414440"/>
                <a:gridCol w="282600"/>
                <a:gridCol w="406440"/>
                <a:gridCol w="1792080"/>
                <a:gridCol w="282600"/>
                <a:gridCol w="461880"/>
                <a:gridCol w="1233720"/>
                <a:gridCol w="433440"/>
                <a:gridCol w="493560"/>
                <a:gridCol w="1165320"/>
              </a:tblGrid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u Dh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g K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nei Darussal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y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o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an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is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dom of Saudi Ara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 Taip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HWP F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81A7-D2BD-4E80-AF91-6AFDCE093210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33440" y="1860480"/>
          <a:ext cx="829152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860480"/>
                    <a:ext cx="82915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43040" y="1499760"/>
            <a:ext cx="76867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HWP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14</a:t>
            </a:r>
            <a:r>
              <a:rPr b="1" lang="en-US" sz="2400" spc="-1" strike="noStrike" baseline="30000">
                <a:solidFill>
                  <a:srgbClr val="632523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 AHWP Hong Kong Meeting (Nov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380 delegates from 31 countries/econom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A305-BB70-4BA3-904A-3F54913B2E0C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圖片 5" descr="AHWP 01 Group Photo.jpg"/>
          <p:cNvPicPr/>
          <p:nvPr/>
        </p:nvPicPr>
        <p:blipFill>
          <a:blip r:embed="rId1"/>
          <a:stretch/>
        </p:blipFill>
        <p:spPr>
          <a:xfrm>
            <a:off x="1749600" y="2857680"/>
            <a:ext cx="575136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eeting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HWPTC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10</a:t>
            </a:r>
            <a:r>
              <a:rPr b="1" lang="en-US" sz="2800" spc="-1" strike="noStrike" baseline="30000">
                <a:solidFill>
                  <a:srgbClr val="632523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 AHWPTC Singapore Meeting (May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11</a:t>
            </a:r>
            <a:r>
              <a:rPr b="1" lang="en-US" sz="2800" spc="-1" strike="noStrike" baseline="30000">
                <a:solidFill>
                  <a:srgbClr val="632523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 AHWPTC Taipei Meeting (Sep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24D-68F2-471D-803D-6D9FD8D6FC64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圖片 4" descr="10th AHWPTC Meeting.jpg"/>
          <p:cNvPicPr/>
          <p:nvPr/>
        </p:nvPicPr>
        <p:blipFill>
          <a:blip r:embed="rId1"/>
          <a:stretch/>
        </p:blipFill>
        <p:spPr>
          <a:xfrm>
            <a:off x="1531800" y="3286080"/>
            <a:ext cx="5969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157176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HWP Secretariat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2</a:t>
            </a:r>
            <a:r>
              <a:rPr b="1" lang="en-US" sz="2400" spc="-1" strike="noStrike" baseline="30000">
                <a:solidFill>
                  <a:srgbClr val="632523"/>
                </a:solidFill>
                <a:latin typeface="Calibri"/>
              </a:rPr>
              <a:t>nd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 AHWP Secretariat Beijing Meeting (Jan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3</a:t>
            </a:r>
            <a:r>
              <a:rPr b="1" lang="en-US" sz="2400" spc="-1" strike="noStrike" baseline="30000">
                <a:solidFill>
                  <a:srgbClr val="632523"/>
                </a:solidFill>
                <a:latin typeface="Calibri"/>
              </a:rPr>
              <a:t>rd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 AHWP </a:t>
            </a: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Secretariat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 Shanghai Meeting (Sep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75E5-EEB6-41AE-8EC4-723922976855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圖片 4" descr="RCtl7AnZHNYFRmuypRQr8Q_S.jpg"/>
          <p:cNvPicPr/>
          <p:nvPr/>
        </p:nvPicPr>
        <p:blipFill>
          <a:blip r:embed="rId1"/>
          <a:stretch/>
        </p:blipFill>
        <p:spPr>
          <a:xfrm>
            <a:off x="990720" y="3214800"/>
            <a:ext cx="7153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esolu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olved in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Terms of 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Requirements of Medical Device Nomenclatur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AHWP Administration Services Lt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be resolved 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Hous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Amendment 1 to Terms of 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AC79-E3E8-4E28-8F08-DE5AB364C67F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4:11:46Z</dcterms:created>
  <dc:creator>LENOVO USER</dc:creator>
  <dc:description/>
  <dc:language>en-US</dc:language>
  <cp:lastModifiedBy>wner</cp:lastModifiedBy>
  <dcterms:modified xsi:type="dcterms:W3CDTF">2010-11-30T08:13:47Z</dcterms:modified>
  <cp:revision>143</cp:revision>
  <dc:subject/>
  <dc:title>投影片 1</dc:title>
</cp:coreProperties>
</file>