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9B9-D834-4593-AF14-BC346C6F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357-CCE9-40A7-81E4-3F2A8E46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FFD-B22B-4909-8ADD-A0607613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B84-0132-4381-96A2-88D12658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F22B-E625-4FF7-987A-0FB624CB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E307-1BB5-4DC0-B7E3-18CF7720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9CA5-96F0-48BE-B387-DA777E64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46A3-28EE-40DF-AAD4-10BF7A8A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F2EB-12F6-4818-928C-123E4781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0BA8-E400-4374-BA14-7F32F20C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10AC-438D-410D-9D9C-70104B0C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A2A-D1BE-44B9-85DF-1F9F404A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51DE-55DD-4AC3-B185-6D92AF6C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697D-F624-4550-B6F1-B189837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63CD-48EA-46E1-B387-2150CE48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81EE-4692-45F6-93BE-3F3E513A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451-3C59-4D09-BBC9-5CC2CB45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690-AA57-4ED6-B1B4-D0C54239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7AE-C9A1-493B-B04E-6EA1E7BC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B1F-CD7A-46BC-B2D8-AFD61060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CF4-F471-4664-8414-000C9EA8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D45-3BAB-425C-BF73-6E3165D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658-38E8-4F11-B101-7F01E988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06A-82A5-43D5-A5D4-C73CD7B2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BCB7-2C4A-41D0-ABB7-762865F14F2F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035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3" name="圖片 1" descr=""/>
          <p:cNvPicPr/>
          <p:nvPr/>
        </p:nvPicPr>
        <p:blipFill>
          <a:blip r:embed="rId10"/>
          <a:stretch/>
        </p:blipFill>
        <p:spPr>
          <a:xfrm>
            <a:off x="179280" y="5734080"/>
            <a:ext cx="115272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71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4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54C5-BDE1-4F90-88CF-65DF7B92C9DD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5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02" name="圖片 1" descr=""/>
          <p:cNvPicPr/>
          <p:nvPr/>
        </p:nvPicPr>
        <p:blipFill>
          <a:blip r:embed="rId3"/>
          <a:stretch/>
        </p:blipFill>
        <p:spPr>
          <a:xfrm>
            <a:off x="179280" y="5734080"/>
            <a:ext cx="1152720" cy="752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HWP Financial Upda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ryan S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HWP Secretari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30 Nov, 2010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315200" y="1103400"/>
            <a:ext cx="1828800" cy="74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E593-1092-4073-963E-740F578C52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HWP Overall Financial Summary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93560" y="838080"/>
          <a:ext cx="8326440" cy="5118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560" y="838080"/>
                    <a:ext cx="832644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315200" y="0"/>
            <a:ext cx="1828800" cy="74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4D5-DE8A-467A-95D0-2452AA2B8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8680" y="30492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Estimated Budget for AHWP 2011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836640"/>
          <a:ext cx="846612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36640"/>
                    <a:ext cx="8466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315200" y="0"/>
            <a:ext cx="1828800" cy="74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CD7-6104-40A3-9886-347FC7E79E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anks &amp;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y Com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6089-696E-4594-B5F8-69F0710995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3:19:22Z</dcterms:created>
  <dc:creator>wcleung</dc:creator>
  <dc:description/>
  <dc:language>en-US</dc:language>
  <cp:lastModifiedBy>user</cp:lastModifiedBy>
  <dcterms:modified xsi:type="dcterms:W3CDTF">2010-11-27T09:07:13Z</dcterms:modified>
  <cp:revision>69</cp:revision>
  <dc:subject/>
  <dc:title>AHWP Financial Updates</dc:title>
</cp:coreProperties>
</file>