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AA7-17F6-487B-A445-932A6E67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194-55A4-4CCF-B9D6-A9AC113C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381-3599-4BF9-AE6C-3D0FBD86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C88-DE3E-4E8C-AA7A-948B0289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1D304-8733-4FBB-8027-0662DB63CB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F57AE-C29A-45D2-831B-5548D9CAE4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F7911-D2F9-4E98-9AD7-82CD528474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0532F-E388-40A9-BAF9-6577500BDE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A63D2-8877-424D-8411-0482CD7CCF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EC4BE-0F2E-4DF8-A58A-F0CA08A3BB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DC3CA-7504-4C4A-ABFF-FCAB9E0EDC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262-BE41-4694-B797-13556E4F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B38BE-9B14-4C9B-BF84-6F6864ED51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9FB20-383D-41B9-8930-3D870411D1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2F88F-929E-445C-ACF8-2130A54411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834EA-24BF-48E8-AC6B-B2C2520562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61E82-A7CA-4CA0-8846-96C6206566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3712-FE8D-4B9A-AEAB-EA2EEE869A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016C-2E17-4AD5-827D-712FE7A739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BB49-47F3-45AB-81D8-B5CDFD7160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F691-C433-4576-B0F7-ADF813C96F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C81A-FE91-4823-945A-D114ADD804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B8B-84B4-428C-B6DE-9A7CA2C8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FDDA-7493-48F5-9A00-3676652BB2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01FE-3F7B-4C1C-A947-D66E8A3C8E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90CD-1FDA-4A30-8885-472474E24B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780C-8C50-483E-83DF-57D943F648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C05A-348D-4E42-A65E-FA46D1145F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6BAE-5AA7-4215-B569-5D4EA16686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7AEA-0CCD-442D-AFE2-DAE7BBEAA3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DB038-78D3-4179-A755-A159D78BBE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49FAD7-D120-47D5-93FA-D59CEBB80E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3A99E7-6FD1-4935-98FF-F6753E389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D70-B087-43ED-B70A-61708A65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2ABD4F-3A06-4E3F-9CEA-027CDFCD82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CEF91D-B23E-4393-AF5F-2124D45454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102A6A-12D6-47CB-B2CD-0940956197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ACC3A6-1116-4045-BB2A-20351390A7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7FC356-A690-4288-ADBC-F591832C6FF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5ACC64-296C-4B93-9862-79D9CD16EA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E4D0B-F2D0-433E-BF60-FDD80142B7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64202D-9E48-4798-AB4B-2FE352684D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E990DB-E5E4-4DEE-AA33-81CF94DEA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0AE0-BBB1-4C0A-9311-4A3F3746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914-7BF0-479A-877A-A9322455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FDA1-7087-40AE-B892-ECCEFA5F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AC6-EEBF-44D2-A44A-F9837033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A5BD-618F-48AC-9A28-E652062E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03FC-ABA1-4135-BD6C-1F5FAED45A0F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0B3F-E39E-4F80-BABC-55372A79040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6" descr=""/>
          <p:cNvPicPr/>
          <p:nvPr/>
        </p:nvPicPr>
        <p:blipFill>
          <a:blip r:embed="rId2"/>
          <a:stretch/>
        </p:blipFill>
        <p:spPr>
          <a:xfrm>
            <a:off x="7858080" y="428760"/>
            <a:ext cx="118764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6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A185-FB1F-4F8F-B61E-E21A4991C737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圖片 6" descr=""/>
          <p:cNvPicPr/>
          <p:nvPr/>
        </p:nvPicPr>
        <p:blipFill>
          <a:blip r:embed="rId2"/>
          <a:stretch/>
        </p:blipFill>
        <p:spPr>
          <a:xfrm>
            <a:off x="8215200" y="6143760"/>
            <a:ext cx="873360" cy="630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6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F82E-8C1A-4201-A564-2B314ECF8D52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7"/>
          </p:nvPr>
        </p:nvSpPr>
        <p:spPr>
          <a:xfrm>
            <a:off x="6867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80C1-772E-4126-9D74-9CAE688AB7CD}" type="slidenum">
              <a:rPr b="0" lang="zh-TW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" y="2214720"/>
            <a:ext cx="900144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ff"/>
                </a:solidFill>
                <a:latin typeface="Calibri"/>
              </a:rPr>
              <a:t>Resolution 2:</a:t>
            </a:r>
            <a:br>
              <a:rPr sz="3100"/>
            </a:br>
            <a:r>
              <a:rPr b="1" lang="en-GB" sz="3100" spc="-1" strike="noStrike">
                <a:solidFill>
                  <a:srgbClr val="3333ff"/>
                </a:solidFill>
                <a:latin typeface="Calibri"/>
              </a:rPr>
              <a:t>Amendment 1 to the Asian Harmonization Working Party (AHWP) &amp; Asian Harmonization Working Party Technical Committee (AHWPTC) Terms of Reference</a:t>
            </a:r>
            <a:br>
              <a:rPr sz="3100"/>
            </a:br>
            <a:br>
              <a:rPr sz="4000"/>
            </a:b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15</a:t>
            </a:r>
            <a:r>
              <a:rPr b="1" i="1" lang="en-US" sz="2800" spc="-1" strike="noStrike" baseline="30000">
                <a:solidFill>
                  <a:srgbClr val="00b050"/>
                </a:solidFill>
                <a:latin typeface="Calibri"/>
              </a:rPr>
              <a:t>th</a:t>
            </a: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 AHWP Meeting</a:t>
            </a:r>
            <a:br>
              <a:rPr sz="2800"/>
            </a:b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30 Dec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投影片編號版面配置區 4"/>
          <p:cNvSpPr/>
          <p:nvPr/>
        </p:nvSpPr>
        <p:spPr>
          <a:xfrm>
            <a:off x="6867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5DC3-83D5-4E74-B752-450FD721BFEC}" type="slidenum">
              <a:rPr b="0" lang="zh-TW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571920" y="785880"/>
            <a:ext cx="1962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current Terms of Reference is resolved on 6 November 2009 in the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HWP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re shall be one AHWP Chair and one AHWP Vice-chair. The AHWP Chair shall come from a Regulatory Authority and the AHWP Vice-chair shall come from the Indu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assist in the expanding roles and work responsibilities of the AHWP Chair, there is a necessity to add 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ice-chair come from a Regulatory Autho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59A6-B6FA-4167-B2BD-9894988C3A12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Original T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current Section on Leadership under Asian harmonization Working Party (AHWP; or the “Working Party”):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ff0000"/>
                </a:solidFill>
                <a:latin typeface="Calibri"/>
              </a:rPr>
              <a:t>One AHWP Chair </a:t>
            </a:r>
            <a:r>
              <a:rPr b="1" i="1" lang="en-US" sz="2200" spc="-1" strike="noStrike">
                <a:solidFill>
                  <a:srgbClr val="215968"/>
                </a:solidFill>
                <a:latin typeface="Calibri"/>
              </a:rPr>
              <a:t>and </a:t>
            </a:r>
            <a:r>
              <a:rPr b="1" i="1" lang="en-US" sz="2200" spc="-1" strike="noStrike">
                <a:solidFill>
                  <a:srgbClr val="984807"/>
                </a:solidFill>
                <a:latin typeface="Calibri"/>
              </a:rPr>
              <a:t>one AHWP Vice-chair </a:t>
            </a:r>
            <a:r>
              <a:rPr b="1" i="1" lang="en-US" sz="2200" spc="-1" strike="noStrike">
                <a:solidFill>
                  <a:srgbClr val="215968"/>
                </a:solidFill>
                <a:latin typeface="Calibri"/>
              </a:rPr>
              <a:t>shall be elected from Primary AHWP Representatives at the AHWP Annual Meeting through voting by all Primary AHWP Representatives for a term of office of about three years until the next election. The </a:t>
            </a:r>
            <a:r>
              <a:rPr b="1" i="1" lang="en-US" sz="2200" spc="-1" strike="noStrike">
                <a:solidFill>
                  <a:srgbClr val="ff0000"/>
                </a:solidFill>
                <a:latin typeface="Calibri"/>
              </a:rPr>
              <a:t>AHWP Chair shall come from a Regulatory Authority</a:t>
            </a:r>
            <a:r>
              <a:rPr b="1" i="1" lang="en-US" sz="2200" spc="-1" strike="noStrike">
                <a:solidFill>
                  <a:srgbClr val="215968"/>
                </a:solidFill>
                <a:latin typeface="Calibri"/>
              </a:rPr>
              <a:t> and the </a:t>
            </a:r>
            <a:r>
              <a:rPr b="1" i="1" lang="en-US" sz="2200" spc="-1" strike="noStrike">
                <a:solidFill>
                  <a:srgbClr val="984807"/>
                </a:solidFill>
                <a:latin typeface="Calibri"/>
              </a:rPr>
              <a:t>AHWP Vice-chair shall come from the Industry</a:t>
            </a:r>
            <a:r>
              <a:rPr b="1" i="1" lang="en-US" sz="2200" spc="-1" strike="noStrike">
                <a:solidFill>
                  <a:srgbClr val="215968"/>
                </a:solidFill>
                <a:latin typeface="Calibri"/>
              </a:rPr>
              <a:t>. The AHWP Chair and Vice-chair will normally rotate among member economies. In the absence of the AHWP Chair and/or AHWP Vice-chair at a given AHWP Meeting, their respective member economies may nominate suitable persons as acting AHWP Chair and/or AHWP Vice-chair accordingly for the purpose of the said meet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2159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9879-5A77-4634-8F83-0203D3861A3A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Proposed Amend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One AHWP Chair and two AHWP Vice-chairs 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shall be elected from Primary AHWP Representatives at the AHWP Annual Meeting through voting by all Primary AHWP Representatives for a term of office until the next election.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The AHWP Chair and one AHWP Vice-chair shall come from Regulatory Authorities 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while </a:t>
            </a:r>
            <a:r>
              <a:rPr b="1" i="1" lang="en-US" sz="2400" spc="-1" strike="noStrike">
                <a:solidFill>
                  <a:srgbClr val="984807"/>
                </a:solidFill>
                <a:latin typeface="Calibri"/>
              </a:rPr>
              <a:t>one AHWP Vice-chair shall come from the Industry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. The AHWP Chair and Vice-chairs will normally rotate among member economies. In the absence of the AHWP Chair and/or AHWP Vice-chairs at a given AHWP Meeting, they or the organizations that they are representing  may nominate suitable persons as acting AHWP Chair and/or AHWP Vice-chairs for the purpose of the said meet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ADFC-206B-444C-A5A0-6A899E7D80E9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28880" y="2857320"/>
            <a:ext cx="55008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EC6F-4392-4DE9-8FD5-2309AA8C039F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28880" y="2642760"/>
            <a:ext cx="5500800" cy="13575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Yes / N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160F-6487-48D8-9E61-7D38E95D09FF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04:11:46Z</dcterms:created>
  <dc:creator>LENOVO USER</dc:creator>
  <dc:description/>
  <dc:language>en-US</dc:language>
  <cp:lastModifiedBy>W K Lau</cp:lastModifiedBy>
  <dcterms:modified xsi:type="dcterms:W3CDTF">2010-11-25T09:41:08Z</dcterms:modified>
  <cp:revision>149</cp:revision>
  <dc:subject/>
  <dc:title>投影片 1</dc:title>
</cp:coreProperties>
</file>