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215B-06AA-4E48-841B-9601C533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6C0F-50B2-415F-8774-CF7D623E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8920-1673-4B86-8546-0F373EA5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E50-7DBA-4024-ADBA-CCF56D8C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D14B-57EF-49C2-8595-C36D74EC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4F86-4FC8-4237-821B-F1B0B089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76F9-AAE0-418E-A26D-B54361D9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07CA-4B09-4707-BB0C-851E943D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EC49-08C6-48AA-9D77-32159A4A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8977-0401-4C55-966B-5A9CCBA9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D5C4-B90B-4136-9C22-2F700075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AAA6-EB90-46DE-BEE0-65C17EF4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0376-4678-452B-8098-4DC285CC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5C49-71A2-4234-976A-CBE0371E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24D8-BC95-4015-949C-D873BCE2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4E12-DF06-4EE0-AAB4-AC60D4B8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7D93-2348-448B-B68A-81C12963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7D1E-E98B-4CC5-8F36-077484D8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D4ED-5F90-4EF8-9ACE-95985DA0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288F-B555-4B46-9696-8CED748A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37A-FC80-4A0A-9993-619C65D1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51B-E48F-4C46-98BC-ECABF01B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0FD-D520-4C95-B0C9-5FA5CEFE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DDA-656C-4B84-8180-B079F53D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5E0B-7C65-4408-87A7-1D7CC3CCEE79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DAF9-E404-4ED2-9640-D975F23D4F6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htf.org/sg2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ff00"/>
                </a:solidFill>
                <a:latin typeface="Arial"/>
              </a:rPr>
              <a:t>Post Market Surveillance &amp; Vigilance</a:t>
            </a:r>
            <a:br>
              <a:rPr sz="3600"/>
            </a:br>
            <a:r>
              <a:rPr b="1" lang="fr-BE" sz="3600" spc="-1" strike="noStrike">
                <a:solidFill>
                  <a:srgbClr val="ffff00"/>
                </a:solidFill>
                <a:latin typeface="Arial"/>
              </a:rPr>
              <a:t>- the  way towards harmonisation-</a:t>
            </a:r>
            <a:br>
              <a:rPr sz="3600"/>
            </a:br>
            <a:br>
              <a:rPr sz="2800"/>
            </a:br>
            <a:r>
              <a:rPr b="0" lang="fr-BE" sz="1800" spc="-1" strike="noStrike">
                <a:solidFill>
                  <a:srgbClr val="ffff99"/>
                </a:solidFill>
                <a:latin typeface="Arial"/>
              </a:rPr>
              <a:t>Dr Isabelle Demade</a:t>
            </a:r>
            <a:br>
              <a:rPr sz="1800"/>
            </a:br>
            <a:r>
              <a:rPr b="0" lang="fr-BE" sz="1800" spc="-1" strike="noStrike">
                <a:solidFill>
                  <a:srgbClr val="ffff99"/>
                </a:solidFill>
                <a:latin typeface="Arial"/>
              </a:rPr>
              <a:t>GHTF SG2 Chair</a:t>
            </a:r>
            <a:br>
              <a:rPr sz="1800"/>
            </a:br>
            <a:r>
              <a:rPr b="0" lang="fr-BE" sz="1800" spc="-1" strike="noStrike">
                <a:solidFill>
                  <a:srgbClr val="ffff99"/>
                </a:solidFill>
                <a:latin typeface="Arial"/>
              </a:rPr>
              <a:t>European Commission, </a:t>
            </a:r>
            <a:br>
              <a:rPr sz="1800"/>
            </a:br>
            <a:r>
              <a:rPr b="0" lang="fr-BE" sz="1800" spc="-1" strike="noStrike">
                <a:solidFill>
                  <a:srgbClr val="ffff99"/>
                </a:solidFill>
                <a:latin typeface="Arial"/>
              </a:rPr>
              <a:t>DG Health and Consumer Protection (SANCO)</a:t>
            </a:r>
            <a:br>
              <a:rPr sz="2000"/>
            </a:br>
            <a:br>
              <a:rPr sz="24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26920" y="5157360"/>
            <a:ext cx="777744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404060"/>
                </a:solidFill>
                <a:latin typeface="Arial"/>
              </a:rPr>
              <a:t>15th AHWP Meeting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404060"/>
                </a:solidFill>
                <a:latin typeface="Arial"/>
              </a:rPr>
              <a:t>Riyadh, Kingdom of Saudi Arabia</a:t>
            </a:r>
            <a:r>
              <a:rPr b="0" lang="fr-BE" sz="2000" spc="-1" strike="noStrike">
                <a:solidFill>
                  <a:srgbClr val="40406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404060"/>
                </a:solidFill>
                <a:latin typeface="Arial"/>
              </a:rPr>
              <a:t>November 2010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747864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Vigilance Pre-requi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The Key Actors:</a:t>
            </a:r>
            <a:br>
              <a:rPr sz="3200"/>
            </a:br>
            <a:r>
              <a:rPr b="1" lang="en-AU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  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- Health-care professionals, physicians</a:t>
            </a:r>
            <a:br>
              <a:rPr sz="2800"/>
            </a:b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 -</a:t>
            </a:r>
            <a:r>
              <a:rPr b="1" lang="en-AU" sz="24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Manufacturers/ Authorised Rep/   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Distribu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- Competent Authorities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747864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Vigilance Pre-requisites </a:t>
            </a:r>
            <a:r>
              <a:rPr b="1" lang="en-AU" sz="36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(cont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Training on regulatory &amp; reporting requirements          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Building capac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Sharing experience and knowledge  (e.g. international cooperation)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747864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Vigilance Pre-requisites </a:t>
            </a:r>
            <a:r>
              <a:rPr b="1" lang="en-AU" sz="36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(cont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- Good Record Keeping/ Datab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Optimise your IT Tool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electronic exchange of da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Timely action for public prote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747864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Vigilance / Information Exchang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Why?</a:t>
            </a:r>
            <a:br>
              <a:rPr sz="2800"/>
            </a:br>
            <a:r>
              <a:rPr b="1" lang="en-AU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Global/Regional Marke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 </a:t>
            </a:r>
            <a:r>
              <a:rPr b="1" lang="en-AU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Limited resour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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void work dupli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create synergies/ pool experti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detect signals early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747864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Vigilance / Information Exchang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GHTF: </a:t>
            </a:r>
            <a:r>
              <a:rPr b="1" lang="en-AU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NCAR Exchange programme</a:t>
            </a:r>
            <a:br>
              <a:rPr sz="2800"/>
            </a:b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= </a:t>
            </a:r>
            <a:r>
              <a:rPr b="1" lang="en-AU" sz="28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info exchange on serious AE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between NC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 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SG2 N38 (Application Requirement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          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N79 (Exchange Criteria and Report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Form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747864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ther PMS Activit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- </a:t>
            </a:r>
            <a:r>
              <a:rPr b="1" lang="en-AU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MFR Post Market Surveillance Plan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</a:t>
            </a:r>
            <a:r>
              <a:rPr b="1" lang="en-AU" sz="24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(handling of complaint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Post Market Clinical Follow 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 </a:t>
            </a:r>
            <a:r>
              <a:rPr b="1" lang="en-AU" sz="24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( new technologies; implantables:long term safety and performanc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747864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ther PMS Activities </a:t>
            </a:r>
            <a:r>
              <a:rPr b="1" lang="en-AU" sz="36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(cont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Competent Authority PMS plan</a:t>
            </a:r>
            <a:r>
              <a:rPr b="1" lang="en-AU" sz="28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 ○ </a:t>
            </a: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strong inspection programm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   </a:t>
            </a: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( prod claims and labelling; rev. of tech. files;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   </a:t>
            </a: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uditing MFR facilities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 ○ </a:t>
            </a: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post-market test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747864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ther PMS Activities </a:t>
            </a:r>
            <a:r>
              <a:rPr b="1" lang="en-AU" sz="36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(cont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dded valu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feedback on performance in the fiel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</a:t>
            </a:r>
            <a:r>
              <a:rPr b="1" lang="en-AU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respond swiftly to safety concern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747864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n summary/ Achieve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r>
              <a:rPr b="1" lang="en-AU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GHTF guidance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- MFRs AE Reporting (N54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- Exchange Programme on NCA Repor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(N38; N79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- Communication of FSCA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              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FSN content (N57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r>
              <a:rPr b="1" lang="en-AU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Under Dev</a:t>
            </a:r>
            <a:r>
              <a:rPr b="1" lang="en-AU" sz="32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: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FSCA def and classifi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747864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n summary/ </a:t>
            </a:r>
            <a:r>
              <a:rPr b="1" lang="en-AU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n going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r>
              <a:rPr b="1" lang="en-AU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Sharing of information on high risk A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	</a:t>
            </a:r>
            <a:r>
              <a:rPr b="1" lang="en-AU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NCAR Exchange Programme (N 79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Train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on the NCAR Exchange Program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on N5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00"/>
                </a:solidFill>
                <a:latin typeface="Arial"/>
              </a:rPr>
              <a:t>What is PMS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1" lang="fr-BE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= the pro-active collection of information o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fr-BE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fr-BE" sz="2800" spc="-1" strike="noStrike">
                <a:solidFill>
                  <a:srgbClr val="eaeaea"/>
                </a:solidFill>
                <a:latin typeface="Arial"/>
              </a:rPr>
              <a:t>the quality, safety and performanc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fr-BE" sz="2800" spc="-1" strike="noStrike">
                <a:solidFill>
                  <a:srgbClr val="ffff99"/>
                </a:solidFill>
                <a:latin typeface="Arial"/>
              </a:rPr>
              <a:t>AFTER </a:t>
            </a:r>
            <a:r>
              <a:rPr b="1" lang="fr-BE" sz="2800" spc="-1" strike="noStrike">
                <a:solidFill>
                  <a:srgbClr val="eaeaea"/>
                </a:solidFill>
                <a:latin typeface="Arial"/>
              </a:rPr>
              <a:t>the MD is placed on the market</a:t>
            </a:r>
            <a:r>
              <a:rPr b="1" lang="fr-BE" sz="2800" spc="-1" strike="noStrike">
                <a:solidFill>
                  <a:srgbClr val="ffff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fr-BE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747864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n summary/ </a:t>
            </a:r>
            <a:r>
              <a:rPr b="1" lang="en-AU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ot harmonised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E Report Evaluation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How to set up and implement a PMS syste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747864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onclus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Common objectiv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</a:t>
            </a:r>
            <a:r>
              <a:rPr b="1" lang="en-AU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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ensuring </a:t>
            </a:r>
            <a:r>
              <a:rPr b="1" lang="en-AU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safety, performance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and quality of M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</a:t>
            </a:r>
            <a:r>
              <a:rPr b="1" lang="en-AU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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promoting technical </a:t>
            </a:r>
            <a:r>
              <a:rPr b="1" lang="en-AU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inov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</a:t>
            </a:r>
            <a:r>
              <a:rPr b="1" lang="en-AU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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facilitating </a:t>
            </a:r>
            <a:r>
              <a:rPr b="1" lang="en-AU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trade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Harmonisation</a:t>
            </a:r>
            <a:br>
              <a:rPr sz="2800"/>
            </a:br>
            <a:r>
              <a:rPr b="1" lang="en-AU" sz="28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Convergence of regulatory practi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ffff00"/>
                </a:solidFill>
                <a:latin typeface="Arial"/>
              </a:rPr>
              <a:t>Various initia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aeaea"/>
                </a:solidFill>
                <a:latin typeface="Arial"/>
              </a:rPr>
              <a:t>- The EU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aeaea"/>
                </a:solidFill>
                <a:latin typeface="Arial"/>
              </a:rPr>
              <a:t>GHTF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aeaea"/>
                </a:solidFill>
                <a:latin typeface="Arial"/>
              </a:rPr>
              <a:t>+ international standar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aeaea"/>
                </a:solidFill>
                <a:latin typeface="Arial"/>
              </a:rPr>
              <a:t>AHWP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aeaea"/>
                </a:solidFill>
                <a:latin typeface="Arial"/>
              </a:rPr>
              <a:t>ASE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aeaea"/>
                </a:solidFill>
                <a:latin typeface="Arial"/>
              </a:rPr>
              <a:t>WH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2781000"/>
            <a:ext cx="9144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a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0920" y="141300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More info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4800" y="2492280"/>
            <a:ext cx="853920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 u="sng">
                <a:solidFill>
                  <a:srgbClr val="65b2ff"/>
                </a:solidFill>
                <a:uFillTx/>
                <a:latin typeface="Times New Roman"/>
                <a:ea typeface="ＭＳ Ｐゴシック"/>
                <a:hlinkClick r:id="rId1"/>
              </a:rPr>
              <a:t>http://www.ghtf.org/sg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5b2ff"/>
                </a:solidFill>
                <a:latin typeface="Times New Roman"/>
              </a:rPr>
              <a:t>http://ec.europa.eu</a:t>
            </a:r>
            <a:br>
              <a:rPr sz="2800"/>
            </a:br>
            <a:r>
              <a:rPr b="1" lang="en-GB" sz="2800" spc="-1" strike="noStrike">
                <a:solidFill>
                  <a:srgbClr val="65b2ff"/>
                </a:solidFill>
                <a:latin typeface="Times New Roman"/>
              </a:rPr>
              <a:t>/consumers/sectors/medical-devi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00"/>
                </a:solidFill>
                <a:latin typeface="Arial"/>
              </a:rPr>
              <a:t>What is PMS? </a:t>
            </a:r>
            <a:r>
              <a:rPr b="1" lang="fr-BE" sz="3600" spc="-1" strike="noStrike">
                <a:solidFill>
                  <a:srgbClr val="eaeaea"/>
                </a:solidFill>
                <a:latin typeface="Arial"/>
              </a:rPr>
              <a:t>(cont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1" lang="fr-BE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An effective form of </a:t>
            </a:r>
            <a:r>
              <a:rPr b="1" lang="fr-BE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regulatory oversight</a:t>
            </a:r>
            <a:r>
              <a:rPr b="1" lang="fr-BE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 in post market</a:t>
            </a:r>
            <a:r>
              <a:rPr b="1" lang="fr-BE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timely intevention b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- Regulato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- MFR, Official representativ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to </a:t>
            </a:r>
            <a:r>
              <a:rPr b="1" lang="fr-BE" sz="2400" spc="-1" strike="noStrike">
                <a:solidFill>
                  <a:srgbClr val="ffcc00"/>
                </a:solidFill>
                <a:latin typeface="Arial"/>
              </a:rPr>
              <a:t>safeguard public healt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00"/>
                </a:solidFill>
                <a:latin typeface="Arial"/>
              </a:rPr>
              <a:t>Why is PMS importan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1" lang="fr-BE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1" lang="fr-BE" sz="20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fr-BE" sz="2000" spc="-1" strike="noStrike">
                <a:solidFill>
                  <a:srgbClr val="eaeaea"/>
                </a:solidFill>
                <a:latin typeface="Arial"/>
              </a:rPr>
              <a:t>Limitations in premarket assessment</a:t>
            </a:r>
            <a:br>
              <a:rPr sz="2000"/>
            </a:br>
            <a:r>
              <a:rPr b="1" lang="fr-BE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1" lang="fr-BE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1" lang="fr-BE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- Rapid development of new technologies</a:t>
            </a: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fr-BE" sz="2000" spc="-1" strike="noStrike">
                <a:solidFill>
                  <a:srgbClr val="eaeaea"/>
                </a:solidFill>
                <a:latin typeface="Arial"/>
              </a:rPr>
              <a:t>- Increasing patients and public expect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fr-BE" sz="2000" spc="-1" strike="noStrike">
                <a:solidFill>
                  <a:srgbClr val="eaeaea"/>
                </a:solidFill>
                <a:latin typeface="Arial"/>
              </a:rPr>
              <a:t>- Increasing regulatory pressu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fr-BE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re-market requisi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1800" spc="-1" strike="noStrike">
                <a:solidFill>
                  <a:srgbClr val="eaeaea"/>
                </a:solidFill>
                <a:latin typeface="ＭＳ Ｐゴシック"/>
                <a:ea typeface="ＭＳ Ｐゴシック"/>
              </a:rPr>
              <a:t>❑</a:t>
            </a: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</a:t>
            </a:r>
            <a:r>
              <a:rPr b="1" lang="en-AU" sz="20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Registration &amp; identification</a:t>
            </a: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of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- MFRS, Distributors, Authorised representatives, </a:t>
            </a: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importers, …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- Medical Devic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(international categorisation, e.g. GMD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ＭＳ Ｐゴシック"/>
                <a:ea typeface="ＭＳ Ｐゴシック"/>
              </a:rPr>
              <a:t>	</a:t>
            </a:r>
            <a:r>
              <a:rPr b="1" lang="en-AU" sz="2000" spc="-1" strike="noStrike">
                <a:solidFill>
                  <a:srgbClr val="eaeaea"/>
                </a:solidFill>
                <a:latin typeface="ＭＳ Ｐゴシック"/>
                <a:ea typeface="ＭＳ Ｐゴシック"/>
              </a:rPr>
              <a:t>❑ </a:t>
            </a:r>
            <a:r>
              <a:rPr b="1" lang="en-AU" sz="20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Premarket</a:t>
            </a: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conformity </a:t>
            </a:r>
            <a:r>
              <a:rPr b="1" lang="en-AU" sz="20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assessm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ＭＳ Ｐゴシック"/>
                <a:ea typeface="ＭＳ Ｐゴシック"/>
              </a:rPr>
              <a:t>	</a:t>
            </a:r>
            <a:r>
              <a:rPr b="1" lang="en-AU" sz="2000" spc="-1" strike="noStrike">
                <a:solidFill>
                  <a:srgbClr val="eaeaea"/>
                </a:solidFill>
                <a:latin typeface="ＭＳ Ｐゴシック"/>
                <a:ea typeface="ＭＳ Ｐゴシック"/>
              </a:rPr>
              <a:t>	</a:t>
            </a:r>
            <a:r>
              <a:rPr b="1" lang="en-AU" sz="2000" spc="-1" strike="noStrike">
                <a:solidFill>
                  <a:srgbClr val="eaeaea"/>
                </a:solidFill>
                <a:latin typeface="ＭＳ Ｐゴシック"/>
                <a:ea typeface="ＭＳ Ｐゴシック"/>
              </a:rPr>
              <a:t>risk-based; classification. </a:t>
            </a: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r>
              <a:rPr b="1" lang="en-AU" sz="1800" spc="-1" strike="noStrike">
                <a:solidFill>
                  <a:srgbClr val="eaeaea"/>
                </a:solidFill>
                <a:latin typeface="ＭＳ Ｐゴシック"/>
                <a:ea typeface="ＭＳ Ｐゴシック"/>
              </a:rPr>
              <a:t>❑</a:t>
            </a: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Traceability (UDI, …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pictorial view of P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1557360"/>
            <a:ext cx="4343400" cy="4191120"/>
          </a:xfrm>
          <a:prstGeom prst="ellipse">
            <a:avLst/>
          </a:prstGeom>
          <a:solidFill>
            <a:srgbClr val="cc3300">
              <a:alpha val="50000"/>
            </a:srgbClr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ost Mark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urveillance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79640" y="1773360"/>
            <a:ext cx="2666880" cy="2438280"/>
          </a:xfrm>
          <a:prstGeom prst="ellipse">
            <a:avLst/>
          </a:prstGeom>
          <a:solidFill>
            <a:srgbClr val="00cc66">
              <a:alpha val="50000"/>
            </a:srgbClr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Vigila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(Adverse Ev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Reporting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56080" y="2052720"/>
            <a:ext cx="3242160" cy="2014200"/>
          </a:xfrm>
          <a:prstGeom prst="rect">
            <a:avLst/>
          </a:prstGeom>
          <a:solidFill>
            <a:srgbClr val="ccffff"/>
          </a:solidFill>
          <a:ln cap="sq" w="41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6b99"/>
                </a:solidFill>
                <a:latin typeface="Arial"/>
              </a:rPr>
              <a:t>Post-Market Surveillan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6b99"/>
                </a:solidFill>
                <a:latin typeface="Arial"/>
              </a:rPr>
              <a:t>Information is used for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6b9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6b6b99"/>
                </a:solidFill>
                <a:latin typeface="Arial"/>
              </a:rPr>
              <a:t>Injury preven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6b9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6b6b99"/>
                </a:solidFill>
                <a:latin typeface="Arial"/>
              </a:rPr>
              <a:t>Product improve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6b9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6b6b99"/>
                </a:solidFill>
                <a:latin typeface="Arial"/>
              </a:rPr>
              <a:t>Development of standard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6b9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6b6b99"/>
                </a:solidFill>
                <a:latin typeface="Arial"/>
              </a:rPr>
              <a:t>Regulatory refine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6b9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747864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The Vigilance Syst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= Risk Detec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   </a:t>
            </a:r>
            <a:r>
              <a:rPr b="1" lang="en-AU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Risk Assess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   </a:t>
            </a:r>
            <a:r>
              <a:rPr b="1" lang="en-AU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Risk Reduc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   </a:t>
            </a:r>
            <a:r>
              <a:rPr b="1" lang="en-AU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Risk Commun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747864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The Vigilance System </a:t>
            </a:r>
            <a:r>
              <a:rPr b="1" lang="en-AU" sz="32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(cont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   </a:t>
            </a:r>
            <a:r>
              <a:rPr b="1" lang="en-AU" sz="3200" spc="-1" strike="noStrike">
                <a:solidFill>
                  <a:srgbClr val="ffff99"/>
                </a:solidFill>
                <a:latin typeface="Times New Roman"/>
                <a:ea typeface="ＭＳ Ｐゴシック"/>
              </a:rPr>
              <a:t>► </a:t>
            </a:r>
            <a:r>
              <a:rPr b="1" lang="en-AU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Adverse Event Reporting </a:t>
            </a:r>
            <a:r>
              <a:rPr b="1" lang="en-AU" sz="32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(N54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 </a:t>
            </a:r>
            <a:r>
              <a:rPr b="1" lang="en-AU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	</a:t>
            </a:r>
            <a:r>
              <a:rPr b="1" lang="en-AU" sz="3200" spc="-1" strike="noStrike">
                <a:solidFill>
                  <a:srgbClr val="ffff99"/>
                </a:solidFill>
                <a:latin typeface="Times New Roman"/>
                <a:ea typeface="ＭＳ Ｐゴシック"/>
              </a:rPr>
              <a:t>►</a:t>
            </a:r>
            <a:r>
              <a:rPr b="1" lang="en-AU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 </a:t>
            </a:r>
            <a:r>
              <a:rPr b="1" lang="en-AU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AE Investigation </a:t>
            </a:r>
            <a:r>
              <a:rPr b="1" lang="en-AU" sz="32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(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 </a:t>
            </a:r>
            <a:r>
              <a:rPr b="1" lang="en-AU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	</a:t>
            </a:r>
            <a:r>
              <a:rPr b="1" lang="en-AU" sz="3200" spc="-1" strike="noStrike">
                <a:solidFill>
                  <a:srgbClr val="ffff99"/>
                </a:solidFill>
                <a:latin typeface="Times New Roman"/>
                <a:ea typeface="ＭＳ Ｐゴシック"/>
              </a:rPr>
              <a:t>►</a:t>
            </a:r>
            <a:r>
              <a:rPr b="1" lang="en-AU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 </a:t>
            </a:r>
            <a:r>
              <a:rPr b="1" lang="en-AU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Field Safety Corrective Actions (FSCA)/ Recalls   </a:t>
            </a:r>
            <a:r>
              <a:rPr b="1" lang="en-AU" sz="32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(under dev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747864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The Vigilance System </a:t>
            </a:r>
            <a:r>
              <a:rPr b="1" lang="en-AU" sz="32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(cont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      </a:t>
            </a:r>
            <a:r>
              <a:rPr b="1" lang="en-AU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Risk Communication:</a:t>
            </a:r>
            <a:br>
              <a:rPr sz="3200"/>
            </a:br>
            <a:r>
              <a:rPr b="1" lang="en-AU" sz="32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  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- FSN content (N57)</a:t>
            </a:r>
            <a:br>
              <a:rPr sz="2800"/>
            </a:b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 -</a:t>
            </a:r>
            <a:r>
              <a:rPr b="1" lang="en-AU" sz="24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Handling of info on Vigilance reports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(N8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- NCAR Exchange Programme  (N38;      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N79) </a:t>
            </a:r>
            <a:r>
              <a:rPr b="1" lang="en-AU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4:01:47Z</dcterms:created>
  <dc:creator>demadis</dc:creator>
  <dc:description/>
  <dc:language>en-US</dc:language>
  <cp:lastModifiedBy>demadis</cp:lastModifiedBy>
  <dcterms:modified xsi:type="dcterms:W3CDTF">2010-11-28T04:33:58Z</dcterms:modified>
  <cp:revision>39</cp:revision>
  <dc:subject/>
  <dc:title>Slide 1</dc:title>
</cp:coreProperties>
</file>