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2499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2496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17280"/>
            <a:ext cx="2706840" cy="479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541320" y="17280"/>
            <a:ext cx="2706840" cy="479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742680" y="743040"/>
            <a:ext cx="4762440" cy="357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833040" y="4560840"/>
            <a:ext cx="4581720" cy="4302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9102600"/>
            <a:ext cx="2706840" cy="479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541320" y="9102600"/>
            <a:ext cx="2706840" cy="479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0074E3-8756-4466-8042-D8F68B85B4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43040" y="743040"/>
            <a:ext cx="4762440" cy="3571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33040" y="4560840"/>
            <a:ext cx="4581720" cy="4302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ing UDI to exchange/connect data and data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E24-DD7E-4140-B9C7-65EA36F6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B17-02C8-4D3F-93E0-24DED3B3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8A3-0F17-4E83-8493-835E6D10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D5E-AB93-47CB-8202-985A5E15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FE2C-9C6A-489E-9013-84EAA279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EEA6-5CCA-4D9E-AA0D-FC29F1DC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B8FD-D50E-4A67-A5B2-5C1FA7A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108D-9A42-488C-9CF5-E737A4EF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F304-CE68-4939-82A4-F3D4D7B6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0B5-AA2D-42E9-803E-1550AB68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59ED-59CD-40F0-98E2-0F27769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668-6D54-4AD8-8ADC-9DAD20C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2B4E-318C-4C3C-BF21-4F53FD60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98FC-1ACF-4394-8C1B-9EA801FA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AAA3-3C43-4B5C-8DEE-EBCABBA3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8AE9-A6AF-40E6-A080-2D49DEA0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8CF1-A456-4E5C-8035-55620ECD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108C-BD90-48C9-96C3-3471711D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88E8-90C3-4D22-AF2D-828D59A0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1530-0BBE-4A49-A9AD-221461F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BF64-D35D-4BCD-9271-BE1520BA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1A7F-CFDF-426B-AAC5-0CAD969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2B5-5A39-4F4A-8A26-812E03C1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DD12-BCD8-49B5-BA2D-7C415CE1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33D6-A27B-4C22-A92E-6C303BF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CA36-0A4B-41C3-9FB9-374EE761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FE33-3D48-42D7-A505-3C7E8082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F97D-679D-45E2-A809-36A37C0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061C-109E-4754-85B5-367E5A93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8AF1-6548-4514-92AE-2CEE670B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0D8-2C97-47B9-89D8-C66D1E7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7B8-E545-460A-8C68-196996DC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703-2201-45F4-ACC0-5E42EA72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C46-AAB4-48BA-A72D-331C8C2C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6FB-5BD4-4DCE-BEAA-19B8FB8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04F-07D8-4148-9DF2-1C2C21D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2 Augus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9AD-5DF8-4153-A094-A6B3CC83F1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19BD-F841-4293-939B-CCF7F483D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2 Augus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C92-FD9D-48CA-9FCA-EAF50D8B1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htf.org/documents/AHWG-PD1-N2R1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3240" y="1534680"/>
            <a:ext cx="8202960" cy="16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Unique Device Identification</a:t>
            </a:r>
            <a:br>
              <a:rPr sz="4400"/>
            </a:b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Update – FDA and GHTF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55240" y="4113000"/>
            <a:ext cx="7086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y Crow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ior Advisor for Patient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and Drug Admin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y.crowley@fda.hhs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-980-19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99ccff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 – Developing the UDI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1600" y="1595160"/>
            <a:ext cx="8242200" cy="48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UDI code according to ISO 15459 [GS1, HIBC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nd maintained by the manufactur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atenating Device and Production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vice Identifier (DI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[static] Manufacturer, make, model [i.e., each catalogue number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duction Identifier (PI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[dynamic] however product is currently controlled – serial, lot number; expiration, manufacturing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CD1-C7A3-4261-A0A2-A33E84EC81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Risk-based Approach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7788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 identifier reflects current control (label) – not requiring serializ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ularity of marking based on risk of device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I for some devices on multi-packs or higher levels of pack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ll devices require production ident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into account realities of retai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ADA-7D41-465C-B5BC-58697F2DC4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99ccff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 – UDI Application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31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UDI applied to all levels of packaging, down to the lowest level (patient use/ unit of u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readable and/or encoded in a form of automatic identification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Part Marking (DPM) for some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pecific technology would be identified (technology neut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series of standards (linear barcode, 2-dimensional barcode, RF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CBB-E416-4E2F-913A-EBC04501A1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UDI Application Example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2400" y="1749600"/>
            <a:ext cx="7666200" cy="42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24B-39F9-4297-99BF-5332229EA5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UDI Application Example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097000" y="1684440"/>
            <a:ext cx="477360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5D4-681F-419F-BF74-B5F3EE3AB7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UDI Application Example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1822320"/>
            <a:ext cx="674208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84E-F568-4B75-870D-FE9AE8D1FF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UDI Application - DPM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8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feasible – DPM required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usable/re-sterilized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-term im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-alone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facturers can decide not technologically fea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F4D-EA8C-40C0-A83D-5A15770AE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Combination Products and Kits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775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ombination product with device PMOA has its own UD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kit (devices only) has its own U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separable device constituent part of a combination product gets its own UD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vice in a kit gets its own U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A1B-3803-433F-BB92-5FDBA96860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3</a:t>
            </a:r>
            <a:r>
              <a:rPr b="1" lang="en-US" sz="4000" spc="-1" strike="noStrike" baseline="30000">
                <a:solidFill>
                  <a:srgbClr val="99ccff"/>
                </a:solidFill>
                <a:latin typeface="Times New Roman"/>
              </a:rPr>
              <a:t>rd</a:t>
            </a: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 - UDI Database Development</a:t>
            </a:r>
            <a:endParaRPr b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5120" y="1595160"/>
            <a:ext cx="840600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ice Identifier Type/Code [GTIN, HIBC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/model; Brand/Trade Name; Size; Descri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ice model number (or reference numb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 of Measure/Packaging level/qua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by – Lot and/or Serial Number; Exp.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name, phone,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MDN Classification code/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age condition; Single Use; Ster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known, labeled allergen (e.g., late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DA premarket authorization (510k, P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DA Listing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6CF-95B4-430E-AAA8-58A8A1E08C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Focus on Master Data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1040" y="4846680"/>
            <a:ext cx="3025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du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494160"/>
            <a:ext cx="30621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ve-piped data bound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28760" y="2351160"/>
            <a:ext cx="43736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common data 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99120" y="3672000"/>
            <a:ext cx="319860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sharing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4" idx="0"/>
          </p:cNvCxnSpPr>
          <p:nvPr/>
        </p:nvCxnSpPr>
        <p:spPr>
          <a:xfrm>
            <a:off x="6611400" y="2588760"/>
            <a:ext cx="188280" cy="10735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4" idx="2"/>
            <a:endCxn id="221" idx="3"/>
          </p:cNvCxnSpPr>
          <p:nvPr/>
        </p:nvCxnSpPr>
        <p:spPr>
          <a:xfrm rot="5400000">
            <a:off x="6048720" y="4334400"/>
            <a:ext cx="927720" cy="5738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1"/>
            <a:endCxn id="222" idx="2"/>
          </p:cNvCxnSpPr>
          <p:nvPr/>
        </p:nvCxnSpPr>
        <p:spPr>
          <a:xfrm rot="10800000">
            <a:off x="2445480" y="4344120"/>
            <a:ext cx="735840" cy="7405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2" idx="3"/>
            <a:endCxn id="224" idx="1"/>
          </p:cNvCxnSpPr>
          <p:nvPr/>
        </p:nvCxnSpPr>
        <p:spPr>
          <a:xfrm flipV="1">
            <a:off x="3986280" y="3909240"/>
            <a:ext cx="1203840" cy="5400"/>
          </a:xfrm>
          <a:prstGeom prst="bentConnector3">
            <a:avLst>
              <a:gd name="adj1" fmla="val 4986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57E-0BB7-44E0-986F-3F9ECA6C95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UDI Can Improve… Visibility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775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device rec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erse event reporting and postmarket surveil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king and tracing, supply chain security; and anti-counterfeiting/diversion (location syste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ative effectiveness (e.g., registr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aster/terror preparation and shortages/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medical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ing medical device use in patient’s EHR/PHR, hospital information systems, claim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tinel Initiative - strengthening FDA’s ability to query data systems for relevant devic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C04-597B-481F-ADFE-42109097E7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Focus on Master Data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775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reed to, standard critical business data that can be shared across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or actual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ies and procedures for creation, access, update, and management of central re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s on data quality, integration, single version of the truth, data stewardsh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M is complementary to data warehousing and business intel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83F-44C2-4F10-9CC6-31B064E400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00280" y="3062160"/>
            <a:ext cx="7992720" cy="336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ice Identifier: GS1 20810900100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path Dextrus Finger Mounting Locking Forc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hicon Endo-Surgery Inc, Cincinnati, Oh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ne Smith; 1-888-888-8888; JSmith@JNJ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d by Lot; Expiration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aged sterile; Single Use; Pr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MDN code: 12345; 510k: K98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age of 1; Storage conditions: between 0-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not contain latex or PV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31840" y="595440"/>
            <a:ext cx="5061240" cy="24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6A01-FFF9-4224-BFD9-50905F3679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349880" y="3924360"/>
            <a:ext cx="4568760" cy="1509480"/>
          </a:xfrm>
          <a:prstGeom prst="flowChartProcess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69880" y="189000"/>
            <a:ext cx="784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FDA’s UDI Database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34040" y="1546200"/>
            <a:ext cx="1295640" cy="457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7" idx="3"/>
            <a:endCxn id="235" idx="1"/>
          </p:cNvCxnSpPr>
          <p:nvPr/>
        </p:nvCxnSpPr>
        <p:spPr>
          <a:xfrm flipV="1">
            <a:off x="6521400" y="1774440"/>
            <a:ext cx="513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1120680" y="5216400"/>
            <a:ext cx="1611360" cy="4572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Web based t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7920" y="4145040"/>
            <a:ext cx="1365120" cy="1047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4800" y="1442880"/>
            <a:ext cx="1376280" cy="6764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cm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9240" y="4435560"/>
            <a:ext cx="1614600" cy="4572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GSI GD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0" idx="3"/>
            <a:endCxn id="237" idx="1"/>
          </p:cNvCxnSpPr>
          <p:nvPr/>
        </p:nvCxnSpPr>
        <p:spPr>
          <a:xfrm>
            <a:off x="1981080" y="1781280"/>
            <a:ext cx="434160" cy="2160"/>
          </a:xfrm>
          <a:prstGeom prst="bentConnector3">
            <a:avLst>
              <a:gd name="adj1" fmla="val 497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2414520" y="1073160"/>
            <a:ext cx="4106880" cy="141912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The label of Medical Device 123 Size 4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vice Identifier (Device XYZ12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roduction Identifier (Lot #AB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Expiration date (MMDDYYY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Sterile; Latex fr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9240" y="5997600"/>
            <a:ext cx="1614600" cy="4572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FDA eL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8320" y="2705040"/>
            <a:ext cx="2660760" cy="148428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nimum Data 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Device Identifi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 and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MDN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attrib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87680" y="4859280"/>
            <a:ext cx="475920" cy="320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7680" y="5645160"/>
            <a:ext cx="475920" cy="320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1" idx="3"/>
            <a:endCxn id="239" idx="1"/>
          </p:cNvCxnSpPr>
          <p:nvPr/>
        </p:nvCxnSpPr>
        <p:spPr>
          <a:xfrm>
            <a:off x="2733840" y="4663800"/>
            <a:ext cx="2224800" cy="5400"/>
          </a:xfrm>
          <a:prstGeom prst="bentConnector3">
            <a:avLst>
              <a:gd name="adj1" fmla="val 4995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8" idx="3"/>
            <a:endCxn id="239" idx="1"/>
          </p:cNvCxnSpPr>
          <p:nvPr/>
        </p:nvCxnSpPr>
        <p:spPr>
          <a:xfrm flipV="1">
            <a:off x="2731680" y="4668480"/>
            <a:ext cx="2226240" cy="77688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3" idx="3"/>
            <a:endCxn id="239" idx="1"/>
          </p:cNvCxnSpPr>
          <p:nvPr/>
        </p:nvCxnSpPr>
        <p:spPr>
          <a:xfrm flipV="1">
            <a:off x="2733840" y="4668480"/>
            <a:ext cx="2224800" cy="1558080"/>
          </a:xfrm>
          <a:prstGeom prst="bentConnector3">
            <a:avLst>
              <a:gd name="adj1" fmla="val 4995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4" idx="2"/>
            <a:endCxn id="241" idx="0"/>
          </p:cNvCxnSpPr>
          <p:nvPr/>
        </p:nvCxnSpPr>
        <p:spPr>
          <a:xfrm rot="5400000">
            <a:off x="1803960" y="4311360"/>
            <a:ext cx="246960" cy="2520"/>
          </a:xfrm>
          <a:prstGeom prst="bentConnector3">
            <a:avLst>
              <a:gd name="adj1" fmla="val 4963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0" idx="2"/>
            <a:endCxn id="244" idx="0"/>
          </p:cNvCxnSpPr>
          <p:nvPr/>
        </p:nvCxnSpPr>
        <p:spPr>
          <a:xfrm flipH="1" rot="16200000">
            <a:off x="1318320" y="2094120"/>
            <a:ext cx="586440" cy="635760"/>
          </a:xfrm>
          <a:prstGeom prst="bentConnector3">
            <a:avLst>
              <a:gd name="adj1" fmla="val 498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6899400" y="4146480"/>
            <a:ext cx="1733400" cy="104796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A’s U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39" idx="3"/>
            <a:endCxn id="252" idx="1"/>
          </p:cNvCxnSpPr>
          <p:nvPr/>
        </p:nvCxnSpPr>
        <p:spPr>
          <a:xfrm>
            <a:off x="6322680" y="4668840"/>
            <a:ext cx="577080" cy="216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7243920" y="234936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2" idx="0"/>
            <a:endCxn id="254" idx="2"/>
          </p:cNvCxnSpPr>
          <p:nvPr/>
        </p:nvCxnSpPr>
        <p:spPr>
          <a:xfrm flipH="1" flipV="1" rot="5400000">
            <a:off x="7159320" y="3534840"/>
            <a:ext cx="1218240" cy="5760"/>
          </a:xfrm>
          <a:prstGeom prst="bentConnector3">
            <a:avLst>
              <a:gd name="adj1" fmla="val 5004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4313520" y="3252960"/>
            <a:ext cx="330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A Man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38720" y="5648400"/>
            <a:ext cx="21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3"/>
            <a:endCxn id="252" idx="2"/>
          </p:cNvCxnSpPr>
          <p:nvPr/>
        </p:nvCxnSpPr>
        <p:spPr>
          <a:xfrm flipV="1">
            <a:off x="7349760" y="5193720"/>
            <a:ext cx="416520" cy="865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9" name=""/>
          <p:cNvCxnSpPr/>
          <p:nvPr/>
        </p:nvCxnSpPr>
        <p:spPr>
          <a:xfrm>
            <a:off x="3252960" y="3447720"/>
            <a:ext cx="1699200" cy="1221480"/>
          </a:xfrm>
          <a:prstGeom prst="bentConnector3">
            <a:avLst>
              <a:gd name="adj1" fmla="val 3502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2960280" y="4275000"/>
            <a:ext cx="174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L7 S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EA7-3E21-475B-8D6A-89E2E304EA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Business Rules for UDID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775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base pack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e that all of the DIs are u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e that all required fields are appropriately 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at the listing number is va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hanges to any attribute, require new 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for appropriate groupings of higher-levels of pack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8B9-BE03-4EDC-9445-7F4D52ED2D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Implementation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7788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premarket risk clas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4680" indent="-1936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III – 12 months after final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4680" indent="-1936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II – 36 months after final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4680" indent="-1936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I – 60 months after final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stakeholders to jointly learn and for mid-course cor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out national numbering system (NDC/NH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 alternate placement and excep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 manufacturers and groups of manufacturers to submit requests – results of which will pos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94C-CBF5-4F54-B8DC-AF1F3ABC68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HL7 SPL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6204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with HL7 SPL r5 Team to model UDI GHTF data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ation of Various Product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ing a Product without pack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ng System requirements for UDID and internal FDA Product Information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pt , Store and Transmit HL7 SPL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19D-92B5-448E-8E58-8B2731649E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GMDN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6204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global nomenclature to support regulatory and research activ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erred terms provide high degree of specif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for signal detection and device comparisons during data surveillance and analy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governance model and activities in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tainable funding model unde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with UDI/UDID to provide multiple levels of use (gener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E4A-74C4-47CE-9C46-7C8A9F1B2F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4</a:t>
            </a:r>
            <a:r>
              <a:rPr b="1" lang="en-US" sz="4000" spc="-1" strike="noStrike" baseline="30000">
                <a:solidFill>
                  <a:srgbClr val="99cc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 – Adoption and Implementation</a:t>
            </a:r>
            <a:endParaRPr b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6204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 distributor uptake an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 hospital uptake an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 use of UDI throughout device life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 integration – MMIS-Clin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5120" indent="-233280"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 appropriate use of UDI in EHRs – and use of EHRs for registries and other postmarket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606-64D1-41B9-83CE-67B7898C46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Limitations of UDI and UDID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4920" y="1542960"/>
            <a:ext cx="8265960" cy="517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I is a foundational element – it unambiguously identifies a specific device (at its unit of us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 accrue only if used by all stakehold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ID contains only “static” identifying and product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ID does NOT contain production information, such as lot or serial numbers – and is NOT track/trace or other similar purposes requiring the full UD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ID provides link to product information- not a replacement for Recalls/Adverse Event Databa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680-64E1-48F2-8720-727B058ABF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ique Device Iden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fda.gov/MedicalDevices/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iceRegulationandGuidance/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DeviceIdentif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ail: cdrhudi@fda.hhs.go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84D-469E-49DF-90DD-C55ECB29DF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Medical Device Identification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4296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a system to identify medical devices, which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mbiguous (differentiates among all dimens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at all levels of pack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monized internation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facilitates t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rag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change,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ion of data and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A92-12B7-4895-BBFB-CF3880A858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23920" y="1055520"/>
            <a:ext cx="5786640" cy="5389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1840" y="243000"/>
            <a:ext cx="78483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Future Information Lifecycle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5560" y="2448000"/>
            <a:ext cx="129564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istribu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89400" y="1554120"/>
            <a:ext cx="129528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2"/>
            <a:endCxn id="148" idx="1"/>
          </p:cNvCxnSpPr>
          <p:nvPr/>
        </p:nvCxnSpPr>
        <p:spPr>
          <a:xfrm flipH="1" rot="16200000">
            <a:off x="194760" y="2599200"/>
            <a:ext cx="2179080" cy="1134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2"/>
            <a:endCxn id="150" idx="0"/>
          </p:cNvCxnSpPr>
          <p:nvPr/>
        </p:nvCxnSpPr>
        <p:spPr>
          <a:xfrm>
            <a:off x="4036680" y="2010960"/>
            <a:ext cx="3960" cy="950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5497560" y="3524400"/>
            <a:ext cx="1023840" cy="4572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EH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8800" y="5668920"/>
            <a:ext cx="2046240" cy="609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pulation 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09840" y="5211720"/>
            <a:ext cx="1447920" cy="5842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3240" y="4541760"/>
            <a:ext cx="9907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Re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41360" y="3468600"/>
            <a:ext cx="1405080" cy="5526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8" idx="0"/>
            <a:endCxn id="144" idx="2"/>
          </p:cNvCxnSpPr>
          <p:nvPr/>
        </p:nvCxnSpPr>
        <p:spPr>
          <a:xfrm flipH="1" flipV="1" rot="5400000">
            <a:off x="1977120" y="2972160"/>
            <a:ext cx="564120" cy="429120"/>
          </a:xfrm>
          <a:prstGeom prst="curvedConnector5">
            <a:avLst>
              <a:gd name="adj1" fmla="val 49808"/>
              <a:gd name="adj2" fmla="val 49958"/>
              <a:gd name="adj3" fmla="val 4980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5" idx="0"/>
            <a:endCxn id="147" idx="3"/>
          </p:cNvCxnSpPr>
          <p:nvPr/>
        </p:nvCxnSpPr>
        <p:spPr>
          <a:xfrm flipV="1" rot="16200000">
            <a:off x="2848680" y="365400"/>
            <a:ext cx="216720" cy="216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878520" y="4890960"/>
            <a:ext cx="1290600" cy="4572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Regis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0360" y="2417760"/>
            <a:ext cx="129528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linical 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4" idx="3"/>
            <a:endCxn id="150" idx="1"/>
          </p:cNvCxnSpPr>
          <p:nvPr/>
        </p:nvCxnSpPr>
        <p:spPr>
          <a:xfrm>
            <a:off x="3121200" y="2676240"/>
            <a:ext cx="358920" cy="508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581040" y="1109520"/>
            <a:ext cx="1295280" cy="457200"/>
          </a:xfrm>
          <a:prstGeom prst="flowChartProcess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/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48" idx="3"/>
            <a:endCxn id="150" idx="2"/>
          </p:cNvCxnSpPr>
          <p:nvPr/>
        </p:nvCxnSpPr>
        <p:spPr>
          <a:xfrm>
            <a:off x="2746440" y="3744720"/>
            <a:ext cx="4831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1" idx="2"/>
            <a:endCxn id="162" idx="0"/>
          </p:cNvCxnSpPr>
          <p:nvPr/>
        </p:nvCxnSpPr>
        <p:spPr>
          <a:xfrm rot="5400000">
            <a:off x="5567400" y="4036320"/>
            <a:ext cx="497520" cy="388080"/>
          </a:xfrm>
          <a:prstGeom prst="curvedConnector5">
            <a:avLst>
              <a:gd name="adj1" fmla="val 49818"/>
              <a:gd name="adj2" fmla="val 49953"/>
              <a:gd name="adj3" fmla="val 498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8" idx="2"/>
            <a:endCxn id="151" idx="0"/>
          </p:cNvCxnSpPr>
          <p:nvPr/>
        </p:nvCxnSpPr>
        <p:spPr>
          <a:xfrm flipH="1" rot="16200000">
            <a:off x="5523480" y="3038400"/>
            <a:ext cx="650160" cy="322920"/>
          </a:xfrm>
          <a:prstGeom prst="curvedConnector5">
            <a:avLst>
              <a:gd name="adj1" fmla="val 49861"/>
              <a:gd name="adj2" fmla="val 50000"/>
              <a:gd name="adj3" fmla="val 4986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5" idx="3"/>
            <a:endCxn id="158" idx="0"/>
          </p:cNvCxnSpPr>
          <p:nvPr/>
        </p:nvCxnSpPr>
        <p:spPr>
          <a:xfrm>
            <a:off x="4684320" y="1782720"/>
            <a:ext cx="1003680" cy="63576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44" idx="0"/>
            <a:endCxn id="145" idx="1"/>
          </p:cNvCxnSpPr>
          <p:nvPr/>
        </p:nvCxnSpPr>
        <p:spPr>
          <a:xfrm flipH="1" flipV="1" rot="5400000">
            <a:off x="2598480" y="1657080"/>
            <a:ext cx="665640" cy="9169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216920" y="3930480"/>
            <a:ext cx="1295280" cy="457200"/>
          </a:xfrm>
          <a:prstGeom prst="flowChartProcess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f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16920" y="3205080"/>
            <a:ext cx="1295280" cy="457200"/>
          </a:xfrm>
          <a:prstGeom prst="flowChartProcess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alle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8" idx="1"/>
            <a:endCxn id="150" idx="7"/>
          </p:cNvCxnSpPr>
          <p:nvPr/>
        </p:nvCxnSpPr>
        <p:spPr>
          <a:xfrm flipH="1">
            <a:off x="4600080" y="2646000"/>
            <a:ext cx="440640" cy="53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1" idx="1"/>
            <a:endCxn id="150" idx="6"/>
          </p:cNvCxnSpPr>
          <p:nvPr/>
        </p:nvCxnSpPr>
        <p:spPr>
          <a:xfrm flipH="1" flipV="1">
            <a:off x="4850640" y="3744720"/>
            <a:ext cx="6469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7" idx="1"/>
            <a:endCxn id="158" idx="3"/>
          </p:cNvCxnSpPr>
          <p:nvPr/>
        </p:nvCxnSpPr>
        <p:spPr>
          <a:xfrm flipH="1" flipV="1">
            <a:off x="6335280" y="2645640"/>
            <a:ext cx="882000" cy="788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1"/>
            <a:endCxn id="158" idx="3"/>
          </p:cNvCxnSpPr>
          <p:nvPr/>
        </p:nvCxnSpPr>
        <p:spPr>
          <a:xfrm flipH="1" flipV="1">
            <a:off x="6335280" y="2646000"/>
            <a:ext cx="882000" cy="1513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stCxn id="166" idx="1"/>
            <a:endCxn id="151" idx="3"/>
          </p:cNvCxnSpPr>
          <p:nvPr/>
        </p:nvCxnSpPr>
        <p:spPr>
          <a:xfrm flipH="1" flipV="1">
            <a:off x="6521040" y="3752640"/>
            <a:ext cx="696240" cy="406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247920" y="2979720"/>
            <a:ext cx="1584360" cy="15289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ice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t/serial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 Date 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53" idx="0"/>
            <a:endCxn id="150" idx="4"/>
          </p:cNvCxnSpPr>
          <p:nvPr/>
        </p:nvCxnSpPr>
        <p:spPr>
          <a:xfrm flipV="1">
            <a:off x="4033800" y="4527360"/>
            <a:ext cx="7200" cy="684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4" idx="3"/>
            <a:endCxn id="150" idx="3"/>
          </p:cNvCxnSpPr>
          <p:nvPr/>
        </p:nvCxnSpPr>
        <p:spPr>
          <a:xfrm flipV="1">
            <a:off x="2793600" y="4303440"/>
            <a:ext cx="686520" cy="46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53" idx="1"/>
            <a:endCxn id="154" idx="2"/>
          </p:cNvCxnSpPr>
          <p:nvPr/>
        </p:nvCxnSpPr>
        <p:spPr>
          <a:xfrm rot="10800000">
            <a:off x="2297880" y="4998240"/>
            <a:ext cx="1011960" cy="5058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6889680" y="1103400"/>
            <a:ext cx="1622520" cy="457200"/>
          </a:xfrm>
          <a:prstGeom prst="flowChartProcess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imburs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1"/>
            <a:endCxn id="158" idx="3"/>
          </p:cNvCxnSpPr>
          <p:nvPr/>
        </p:nvCxnSpPr>
        <p:spPr>
          <a:xfrm flipH="1">
            <a:off x="6334920" y="1331640"/>
            <a:ext cx="554760" cy="131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6888240" y="1812960"/>
            <a:ext cx="1623960" cy="457200"/>
          </a:xfrm>
          <a:prstGeom prst="flowChartProcess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iration d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9960" y="5761080"/>
            <a:ext cx="11811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Counterf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98880" y="4478400"/>
            <a:ext cx="1447920" cy="5842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E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48" idx="2"/>
            <a:endCxn id="154" idx="0"/>
          </p:cNvCxnSpPr>
          <p:nvPr/>
        </p:nvCxnSpPr>
        <p:spPr>
          <a:xfrm flipH="1" rot="16200000">
            <a:off x="1910520" y="4154400"/>
            <a:ext cx="521280" cy="254520"/>
          </a:xfrm>
          <a:prstGeom prst="curvedConnector5">
            <a:avLst>
              <a:gd name="adj1" fmla="val 49965"/>
              <a:gd name="adj2" fmla="val 50000"/>
              <a:gd name="adj3" fmla="val 4996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2" idx="2"/>
            <a:endCxn id="153" idx="3"/>
          </p:cNvCxnSpPr>
          <p:nvPr/>
        </p:nvCxnSpPr>
        <p:spPr>
          <a:xfrm rot="5400000">
            <a:off x="4968720" y="4850640"/>
            <a:ext cx="442080" cy="8658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2" idx="1"/>
            <a:endCxn id="150" idx="5"/>
          </p:cNvCxnSpPr>
          <p:nvPr/>
        </p:nvCxnSpPr>
        <p:spPr>
          <a:xfrm flipH="1" flipV="1">
            <a:off x="4599720" y="4303440"/>
            <a:ext cx="299160" cy="46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8" idx="1"/>
            <a:endCxn id="158" idx="3"/>
          </p:cNvCxnSpPr>
          <p:nvPr/>
        </p:nvCxnSpPr>
        <p:spPr>
          <a:xfrm flipH="1">
            <a:off x="6334920" y="2041560"/>
            <a:ext cx="553320" cy="605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79" idx="3"/>
            <a:endCxn id="142" idx="3"/>
          </p:cNvCxnSpPr>
          <p:nvPr/>
        </p:nvCxnSpPr>
        <p:spPr>
          <a:xfrm flipV="1">
            <a:off x="1580760" y="5674680"/>
            <a:ext cx="391320" cy="3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57" idx="2"/>
            <a:endCxn id="152" idx="0"/>
          </p:cNvCxnSpPr>
          <p:nvPr/>
        </p:nvCxnSpPr>
        <p:spPr>
          <a:xfrm>
            <a:off x="7524720" y="5347800"/>
            <a:ext cx="8640" cy="321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>
            <a:stCxn id="151" idx="3"/>
            <a:endCxn id="157" idx="0"/>
          </p:cNvCxnSpPr>
          <p:nvPr/>
        </p:nvCxnSpPr>
        <p:spPr>
          <a:xfrm>
            <a:off x="6521040" y="3752640"/>
            <a:ext cx="1003680" cy="1138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7" name=""/>
          <p:cNvSpPr txBox="1"/>
          <p:nvPr/>
        </p:nvSpPr>
        <p:spPr>
          <a:xfrm>
            <a:off x="3279600" y="5929200"/>
            <a:ext cx="1533600" cy="44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losed System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467080"/>
            <a:ext cx="1397160" cy="4762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Effectiv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1"/>
            <a:endCxn id="158" idx="3"/>
          </p:cNvCxnSpPr>
          <p:nvPr/>
        </p:nvCxnSpPr>
        <p:spPr>
          <a:xfrm flipH="1" flipV="1">
            <a:off x="6334920" y="2645640"/>
            <a:ext cx="756360" cy="59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8" idx="1"/>
            <a:endCxn id="151" idx="3"/>
          </p:cNvCxnSpPr>
          <p:nvPr/>
        </p:nvCxnSpPr>
        <p:spPr>
          <a:xfrm flipH="1">
            <a:off x="6520680" y="2704680"/>
            <a:ext cx="570600" cy="104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4AE9-F1E3-4A31-9C4D-D3BEDE837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Balanced Approach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85904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l me how and 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a UDI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an auto-ID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application for every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21240" y="1911240"/>
            <a:ext cx="427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SSOs/stakeholders to develop best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UDI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I 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ous AIDC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n differen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/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71C-9BBF-44B1-BAC6-DE5868FC8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Medical Devices Include…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775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6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ry wide range of medical products –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 hospital based devices (beds, ventila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vitro diagnostic devices (IVDs) – both clinical lab and Point of Care (PO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Information Technology (HIT) – e.g., EH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-alone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ce k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ation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in alternative sites – e.g., homecare, d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F27-E528-46E8-8832-B4AA217B7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GHTF UDI ADWG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ed October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Chair (Laurent Sel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s US (FDA, AdvaMed), Europe (EC, Eucomed, EDMA), Japan,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HWP recently joined (Chi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Document – available at: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1"/>
              </a:rPr>
              <a:t>www.ghtf.org/documents/AHWG-PD1-N2R1.d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 April 2010; Brussels June 2010; Ottawa September 2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guidance submitted to Nov 2010 SC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0280" indent="-170280">
              <a:lnSpc>
                <a:spcPct val="90000"/>
              </a:lnSpc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month comment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BB3-BAF7-4F72-8B43-EF58EB3A8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FDA Amendments Act of 2007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3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32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tember 27, 2007, the FDAAA signed into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retary shall promulgate regulations establishing a unique device identification system for medical devices requiring the label of devices to bear a unique identifier, unless the Secretary requires an alternative placement or provides an exception for a particular device or type of device. The unique identifier shall adequately identify the device through distribution and use, and may include information on the lot or serial num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E6C-1810-451E-8DB5-1AB212225E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Establishing a UDI System 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ation of 4 distinct 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cc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a standardized system to develop the unique device identifiers (UD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cc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the UDI in human readable and/or AutoID on a device, its label, or b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cc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d maintain the UDI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cc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option and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969-6434-4469-AA0F-8BA9855F73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y Crowley</dc:creator>
  <dc:description/>
  <dc:language>en-US</dc:language>
  <cp:lastModifiedBy>JJC</cp:lastModifiedBy>
  <cp:lastPrinted>1999-06-03T17:01:12Z</cp:lastPrinted>
  <dcterms:modified xsi:type="dcterms:W3CDTF">2010-11-04T02:13:09Z</dcterms:modified>
  <cp:revision>1074</cp:revision>
  <dc:subject/>
  <dc:title>Identifying Real-world Human Factors Issues</dc:title>
</cp:coreProperties>
</file>