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2c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4AD1-C207-4880-8691-19309F4E4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3EC8-ABEC-4513-96BD-744980521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, DG and collea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my privilege to present the progress made by the SHP Branch up to date and the planned priorities for 2006/07 to you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8696-6A29-45A7-9662-5CE5DF780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y presentation will focus 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structure of the branch as an introduction to the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evant key strategic priorities and activities for 2005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me progress made during the year up to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ummary of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 overview of the proposed priorities for 2006/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will conclude with some key and cross-cutting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066680" y="4800600"/>
            <a:ext cx="48769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C64E-C675-44AA-BD03-77214BBF5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y presentation will focus 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structure of the branch as an introduction to the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evant key strategic priorities and activities for 2005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me progress made during the year up to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ummary of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 overview of the proposed priorities for 2006/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will conclude with some key and cross-cutting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066680" y="4800600"/>
            <a:ext cx="48769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764D-91E7-451D-BA06-C9571387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8844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1C8-A1E2-480D-8FA4-42CC37C9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60020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8844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398844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D1E-29C3-4107-AC47-7881D681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60020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60020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8844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398844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398844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D030-FFEC-4F7E-912C-7A74DB38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0A5-69CB-4FFC-A343-F08A9485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1E9-ED27-4C14-B188-24DE03C0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60020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E27-5A9F-4BD6-984D-270D62F9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851E-B032-4A36-A547-C48BE165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400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D8A9-0B78-479B-A16E-734F957D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60020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8844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6BDA-90E2-463C-B474-ED4CCAB8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60020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398844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D29-8737-433D-AE1A-0FC7AE20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60020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8844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69B-F114-417D-8EF9-3DC69029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2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3f2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53f2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3f2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53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3f2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53f2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3f2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53f2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3f2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3f2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3f2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0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64BB-D59C-4C1F-8A18-50383729F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993080" y="152280"/>
            <a:ext cx="115092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6294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A31B-EED9-445A-A562-56ECDDEB3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304560"/>
            <a:ext cx="7010640" cy="16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SOUTH AFRICAN MEDICAL DEVICE REGULATORY FRAMEWORK </a:t>
            </a:r>
            <a:endParaRPr b="0" lang="en-US" sz="36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286000" y="4419720"/>
            <a:ext cx="4952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PRESENTATION AT AHWP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NONKONZO T. MOL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DEPARTMENT OF HEALTH – SOUTH AF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28 NOV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4"/>
          <p:cNvGraphicFramePr/>
          <p:nvPr/>
        </p:nvGraphicFramePr>
        <p:xfrm>
          <a:off x="7086600" y="5938920"/>
          <a:ext cx="2057400" cy="9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5938920"/>
                    <a:ext cx="20574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a2c00"/>
                </a:solidFill>
                <a:latin typeface="Arial"/>
              </a:rPr>
              <a:t>Three Levels of Medical Device Regulations</a:t>
            </a:r>
            <a:endParaRPr b="1" lang="en-US" sz="3200" spc="-1" strike="noStrike">
              <a:solidFill>
                <a:srgbClr val="ba2c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62120" y="1600200"/>
            <a:ext cx="8076240" cy="4229280"/>
            <a:chOff x="762120" y="1600200"/>
            <a:chExt cx="8076240" cy="4229280"/>
          </a:xfrm>
        </p:grpSpPr>
        <p:grpSp>
          <p:nvGrpSpPr>
            <p:cNvPr id="104" name=""/>
            <p:cNvGrpSpPr/>
            <p:nvPr/>
          </p:nvGrpSpPr>
          <p:grpSpPr>
            <a:xfrm>
              <a:off x="3438360" y="3268800"/>
              <a:ext cx="2656800" cy="1067400"/>
              <a:chOff x="3438360" y="3268800"/>
              <a:chExt cx="2656800" cy="1067400"/>
            </a:xfrm>
          </p:grpSpPr>
          <p:sp>
            <p:nvSpPr>
              <p:cNvPr id="105" name=""/>
              <p:cNvSpPr/>
              <p:nvPr/>
            </p:nvSpPr>
            <p:spPr>
              <a:xfrm>
                <a:off x="3961800" y="3268800"/>
                <a:ext cx="2133360" cy="10674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eds Assess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ealth Technology Assessment (HTA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6" name=""/>
              <p:cNvCxnSpPr>
                <a:endCxn id="105" idx="1"/>
              </p:cNvCxnSpPr>
              <p:nvPr/>
            </p:nvCxnSpPr>
            <p:spPr>
              <a:xfrm>
                <a:off x="3438360" y="3812760"/>
                <a:ext cx="5144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7" name=""/>
            <p:cNvGrpSpPr/>
            <p:nvPr/>
          </p:nvGrpSpPr>
          <p:grpSpPr>
            <a:xfrm>
              <a:off x="6105240" y="2857680"/>
              <a:ext cx="2733120" cy="966600"/>
              <a:chOff x="6105240" y="2857680"/>
              <a:chExt cx="2733120" cy="966600"/>
            </a:xfrm>
          </p:grpSpPr>
          <p:sp>
            <p:nvSpPr>
              <p:cNvPr id="108" name=""/>
              <p:cNvSpPr/>
              <p:nvPr/>
            </p:nvSpPr>
            <p:spPr>
              <a:xfrm>
                <a:off x="6705000" y="2857680"/>
                <a:ext cx="2133360" cy="58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Qualified 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afe/Effective u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5" idx="3"/>
                <a:endCxn id="108" idx="1"/>
              </p:cNvCxnSpPr>
              <p:nvPr/>
            </p:nvCxnSpPr>
            <p:spPr>
              <a:xfrm flipV="1">
                <a:off x="6105240" y="3157200"/>
                <a:ext cx="591120" cy="667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0" name=""/>
            <p:cNvGrpSpPr/>
            <p:nvPr/>
          </p:nvGrpSpPr>
          <p:grpSpPr>
            <a:xfrm>
              <a:off x="6105240" y="3812760"/>
              <a:ext cx="2733120" cy="825480"/>
              <a:chOff x="6105240" y="3812760"/>
              <a:chExt cx="2733120" cy="825480"/>
            </a:xfrm>
          </p:grpSpPr>
          <p:sp>
            <p:nvSpPr>
              <p:cNvPr id="111" name=""/>
              <p:cNvSpPr/>
              <p:nvPr/>
            </p:nvSpPr>
            <p:spPr>
              <a:xfrm>
                <a:off x="6705000" y="4057560"/>
                <a:ext cx="2133360" cy="58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ood Management Practice (GMtP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2" name=""/>
              <p:cNvCxnSpPr>
                <a:stCxn id="105" idx="3"/>
                <a:endCxn id="111" idx="1"/>
              </p:cNvCxnSpPr>
              <p:nvPr/>
            </p:nvCxnSpPr>
            <p:spPr>
              <a:xfrm>
                <a:off x="6105240" y="3812760"/>
                <a:ext cx="591120" cy="545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3" name=""/>
            <p:cNvGrpSpPr/>
            <p:nvPr/>
          </p:nvGrpSpPr>
          <p:grpSpPr>
            <a:xfrm>
              <a:off x="1981080" y="1600200"/>
              <a:ext cx="6095160" cy="4229280"/>
              <a:chOff x="1981080" y="1600200"/>
              <a:chExt cx="6095160" cy="422928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3657240" y="1866960"/>
                <a:ext cx="2666520" cy="3962520"/>
                <a:chOff x="3657240" y="1866960"/>
                <a:chExt cx="2666520" cy="39625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657240" y="1866960"/>
                  <a:ext cx="0" cy="3962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323760" y="1866960"/>
                  <a:ext cx="0" cy="3962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981080" y="1600200"/>
                <a:ext cx="6095160" cy="459720"/>
                <a:chOff x="1981080" y="1600200"/>
                <a:chExt cx="6095160" cy="4597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981080" y="1600200"/>
                  <a:ext cx="837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419000" y="1600200"/>
                  <a:ext cx="838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I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238520" y="1600200"/>
                  <a:ext cx="837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II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" name=""/>
            <p:cNvSpPr/>
            <p:nvPr/>
          </p:nvSpPr>
          <p:spPr>
            <a:xfrm>
              <a:off x="1600200" y="2019240"/>
              <a:ext cx="16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38480" y="201924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L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05360" y="2057400"/>
              <a:ext cx="18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TILIS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3124440"/>
              <a:ext cx="2666880" cy="1310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rket Avail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fety &amp; Perform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HTF Guide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st Market Oblig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750680" y="298080"/>
            <a:ext cx="7017840" cy="8167320"/>
            <a:chOff x="1750680" y="298080"/>
            <a:chExt cx="7017840" cy="8167320"/>
          </a:xfrm>
        </p:grpSpPr>
        <p:sp>
          <p:nvSpPr>
            <p:cNvPr id="126" name=""/>
            <p:cNvSpPr/>
            <p:nvPr/>
          </p:nvSpPr>
          <p:spPr>
            <a:xfrm>
              <a:off x="2438280" y="1252080"/>
              <a:ext cx="4057560" cy="3696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1750680" y="298080"/>
              <a:ext cx="7017840" cy="8167320"/>
              <a:chOff x="1750680" y="298080"/>
              <a:chExt cx="7017840" cy="8167320"/>
            </a:xfrm>
          </p:grpSpPr>
          <p:pic>
            <p:nvPicPr>
              <p:cNvPr id="128" name="" descr=""/>
              <p:cNvPicPr/>
              <p:nvPr/>
            </p:nvPicPr>
            <p:blipFill>
              <a:blip r:embed="rId2"/>
              <a:stretch/>
            </p:blipFill>
            <p:spPr>
              <a:xfrm rot="20553600">
                <a:off x="2670480" y="914400"/>
                <a:ext cx="5177520" cy="693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2509560" y="2841120"/>
                <a:ext cx="41432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Current Focus on Safet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2c00"/>
                </a:solidFill>
                <a:latin typeface="Arial"/>
              </a:rPr>
              <a:t>Conformity Assessment </a:t>
            </a:r>
            <a:br>
              <a:rPr sz="3200"/>
            </a:br>
            <a:r>
              <a:rPr b="1" lang="en-US" sz="3200" spc="-1" strike="noStrike">
                <a:solidFill>
                  <a:srgbClr val="ba2c00"/>
                </a:solidFill>
                <a:latin typeface="Arial"/>
              </a:rPr>
              <a:t>(Proposed Scheme)</a:t>
            </a:r>
            <a:endParaRPr b="1" lang="en-US" sz="32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1452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380988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65080" y="3048120"/>
            <a:ext cx="327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f necessary (e.g. no standard or expertise availab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22560" y="4443480"/>
            <a:ext cx="3657600" cy="75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ocumentation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stablishment lice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4800" y="4367160"/>
            <a:ext cx="1069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w risk  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7640" y="3514680"/>
            <a:ext cx="2320920" cy="580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NAS ACREDI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VERSEAS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46240" y="1905120"/>
            <a:ext cx="3733920" cy="763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CAL ASSESS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ational Standards From S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ANAS Accredited Assessment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4040" y="1981080"/>
            <a:ext cx="119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dium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gh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79560" y="23623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/>
          <p:nvPr/>
        </p:nvCxnSpPr>
        <p:spPr>
          <a:xfrm rot="5400000">
            <a:off x="4580280" y="1560240"/>
            <a:ext cx="1539000" cy="3007440"/>
          </a:xfrm>
          <a:prstGeom prst="bentConnector4">
            <a:avLst>
              <a:gd name="adj1" fmla="val 64389"/>
              <a:gd name="adj2" fmla="val 125547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7485480" y="305748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A Lice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/>
          <p:nvPr/>
        </p:nvCxnSpPr>
        <p:spPr>
          <a:xfrm>
            <a:off x="6756480" y="2219400"/>
            <a:ext cx="1248480" cy="7624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/>
          <p:nvPr/>
        </p:nvCxnSpPr>
        <p:spPr>
          <a:xfrm flipV="1">
            <a:off x="6173280" y="3362040"/>
            <a:ext cx="185364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1941480" y="482436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65760" y="482436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2c00"/>
                </a:solidFill>
                <a:latin typeface="Arial"/>
              </a:rPr>
              <a:t>Conformity Assessment </a:t>
            </a:r>
            <a:br>
              <a:rPr sz="3200"/>
            </a:br>
            <a:r>
              <a:rPr b="1" lang="en-US" sz="3200" spc="-1" strike="noStrike">
                <a:solidFill>
                  <a:srgbClr val="ba2c00"/>
                </a:solidFill>
                <a:latin typeface="Arial"/>
              </a:rPr>
              <a:t>(Proposed Scheme)</a:t>
            </a:r>
            <a:endParaRPr b="1" lang="en-US" sz="32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3f25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3f25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3f25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3f25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3f25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3f25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3f25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3f25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3f25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3f25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3f25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3f25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3f25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3f25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3f25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3f25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3f25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3f25"/>
              </a:solidFill>
              <a:latin typeface="Arial"/>
            </a:endParaRPr>
          </a:p>
          <a:p>
            <a:pPr marL="308520" indent="-308520" algn="just">
              <a:lnSpc>
                <a:spcPct val="8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andatory registration of medical devices &amp; IVDDs including their establishments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08520" indent="-308520" algn="just">
              <a:lnSpc>
                <a:spcPct val="8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isk based Call-up</a:t>
            </a:r>
            <a:r>
              <a:rPr b="0" lang="en-CA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en-CA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process for listing of those devices already on the market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1452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380988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65080" y="3048120"/>
            <a:ext cx="327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f necessary (e.g. no standard or expertise availab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22560" y="4443480"/>
            <a:ext cx="3657600" cy="75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ocumentation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stablishment lice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74800" y="4367160"/>
            <a:ext cx="1069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w risk  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7640" y="3514680"/>
            <a:ext cx="2320920" cy="580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NAS ACREDI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VERSEAS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46240" y="1905120"/>
            <a:ext cx="3733920" cy="763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CAL ASSESS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ational Standards From S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ANAS Accredited Assessment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4040" y="1981080"/>
            <a:ext cx="119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dium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gh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79560" y="23623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/>
          <p:nvPr/>
        </p:nvCxnSpPr>
        <p:spPr>
          <a:xfrm rot="5400000">
            <a:off x="4580280" y="1560240"/>
            <a:ext cx="1539000" cy="3007440"/>
          </a:xfrm>
          <a:prstGeom prst="bentConnector4">
            <a:avLst>
              <a:gd name="adj1" fmla="val 64389"/>
              <a:gd name="adj2" fmla="val 125547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7485480" y="305748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A Lice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/>
          <p:nvPr/>
        </p:nvCxnSpPr>
        <p:spPr>
          <a:xfrm>
            <a:off x="6756480" y="2219400"/>
            <a:ext cx="1248480" cy="7624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/>
          <p:nvPr/>
        </p:nvCxnSpPr>
        <p:spPr>
          <a:xfrm flipV="1">
            <a:off x="6173280" y="3362040"/>
            <a:ext cx="185364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1941480" y="482436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65760" y="482436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0539800">
            <a:off x="1258200" y="3022560"/>
            <a:ext cx="64418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utual Recognition Agreements</a:t>
            </a:r>
            <a:r>
              <a:rPr b="1" lang="en-US" sz="2400" spc="-1" strike="noStrike">
                <a:solidFill>
                  <a:srgbClr val="ccc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- Critical Stakeholders (SANAS, SAB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- AHWP Member States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2c00"/>
                </a:solidFill>
                <a:latin typeface="Arial"/>
              </a:rPr>
              <a:t>Post Market Obligations on Vendors</a:t>
            </a:r>
            <a:endParaRPr b="1" lang="en-US" sz="32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3f25"/>
                </a:solidFill>
                <a:latin typeface="Arial"/>
              </a:rPr>
              <a:t>Records (e.g. for Traceability) 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3f25"/>
                </a:solidFill>
                <a:latin typeface="Arial"/>
              </a:rPr>
              <a:t>Mandatory reporting of adverse events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3f25"/>
                </a:solidFill>
                <a:latin typeface="Arial"/>
              </a:rPr>
              <a:t>Competent trained maintenance staff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3f25"/>
                </a:solidFill>
                <a:latin typeface="Arial"/>
              </a:rPr>
              <a:t>Facilities for maintenance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3f25"/>
                </a:solidFill>
                <a:latin typeface="Arial"/>
              </a:rPr>
              <a:t>CE Technicians competence </a:t>
            </a:r>
            <a:r>
              <a:rPr b="1" lang="en-US" sz="2400" spc="-1" strike="noStrike">
                <a:solidFill>
                  <a:srgbClr val="653f25"/>
                </a:solidFill>
                <a:latin typeface="Arial"/>
              </a:rPr>
              <a:t>(mandatory registration with the Engineering Council of South Africa for class C&amp;D)</a:t>
            </a:r>
            <a:endParaRPr b="0" lang="en-US" sz="2400" spc="-1" strike="noStrike">
              <a:solidFill>
                <a:srgbClr val="653f2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3f25"/>
                </a:solidFill>
                <a:latin typeface="Arial"/>
              </a:rPr>
              <a:t>Availability and Quality of Consumables and spares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3f25"/>
                </a:solidFill>
                <a:latin typeface="Arial"/>
              </a:rPr>
              <a:t>User training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3f2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2c00"/>
                </a:solidFill>
                <a:latin typeface="Arial"/>
              </a:rPr>
              <a:t>Level 2 Focus</a:t>
            </a: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53f25"/>
                </a:solidFill>
                <a:latin typeface="Arial"/>
              </a:rPr>
              <a:t>Current focus on Safety</a:t>
            </a: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53f25"/>
                </a:solidFill>
                <a:latin typeface="Arial"/>
              </a:rPr>
              <a:t>Aiming to establish the Health Technology Assessment Agency </a:t>
            </a: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53f25"/>
                </a:solidFill>
                <a:latin typeface="Arial"/>
              </a:rPr>
              <a:t>Give the Agency a legal muscle</a:t>
            </a: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2c00"/>
                </a:solidFill>
                <a:latin typeface="Arial"/>
              </a:rPr>
              <a:t>LEVEL 3</a:t>
            </a:r>
            <a:br>
              <a:rPr sz="3600"/>
            </a:b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2c00"/>
                </a:solidFill>
                <a:latin typeface="Arial"/>
              </a:rPr>
              <a:t>Focus During Utilization Stage</a:t>
            </a:r>
            <a:endParaRPr b="1" lang="en-US" sz="32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3f25"/>
                </a:solidFill>
                <a:latin typeface="Arial"/>
              </a:rPr>
              <a:t>QM Stds </a:t>
            </a:r>
            <a:r>
              <a:rPr b="1" lang="en-US" sz="2400" spc="-1" strike="noStrike">
                <a:solidFill>
                  <a:srgbClr val="653f25"/>
                </a:solidFill>
                <a:latin typeface="Arial"/>
              </a:rPr>
              <a:t>(Essential elements of GMtP)</a:t>
            </a:r>
            <a:r>
              <a:rPr b="1" lang="en-US" sz="2800" spc="-1" strike="noStrike">
                <a:solidFill>
                  <a:srgbClr val="653f25"/>
                </a:solidFill>
                <a:latin typeface="Arial"/>
              </a:rPr>
              <a:t> recognised in law and concretized in codes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3f25"/>
                </a:solidFill>
                <a:latin typeface="Arial"/>
              </a:rPr>
              <a:t>Requirement to fulfill minimum QM Stds prior to acquisition which include…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3f25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653f25"/>
                </a:solidFill>
                <a:latin typeface="Arial"/>
              </a:rPr>
              <a:t>-  Delivery &amp; inspection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3f25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653f25"/>
                </a:solidFill>
                <a:latin typeface="Arial"/>
              </a:rPr>
              <a:t>-  Inventory, record-keeping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3f25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653f25"/>
                </a:solidFill>
                <a:latin typeface="Arial"/>
              </a:rPr>
              <a:t>-  Installation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3f25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653f25"/>
                </a:solidFill>
                <a:latin typeface="Arial"/>
              </a:rPr>
              <a:t>-  Training 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3f25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653f25"/>
                </a:solidFill>
                <a:latin typeface="Arial"/>
              </a:rPr>
              <a:t>-  Mandatory Registration of Clinical Engineers &amp; technicians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3f25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653f25"/>
                </a:solidFill>
                <a:latin typeface="Arial"/>
              </a:rPr>
              <a:t>-  Maintenanc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Liability issues)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3f25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653f25"/>
                </a:solidFill>
                <a:latin typeface="Arial"/>
              </a:rPr>
              <a:t>-  Disposal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3059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a2c00"/>
                </a:solidFill>
                <a:latin typeface="Arial"/>
              </a:rPr>
              <a:t>Pre-Acquisition Considerations</a:t>
            </a:r>
            <a:endParaRPr b="1" lang="en-US" sz="32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53f2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Availability of qualified users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53f2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Reassured source of recurrent operating budget</a:t>
            </a:r>
            <a:r>
              <a:rPr b="1" lang="pt-BR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653f25"/>
                </a:solidFill>
                <a:latin typeface="Arial"/>
                <a:ea typeface="Times New Roman"/>
              </a:rPr>
              <a:t>(consumables, labour, parts)</a:t>
            </a:r>
            <a:r>
              <a:rPr b="1" lang="pt-BR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53f2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Confirmed maintenance services </a:t>
            </a:r>
            <a:r>
              <a:rPr b="1" lang="pt-BR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&amp;</a:t>
            </a:r>
            <a:r>
              <a:rPr b="1" lang="en-CA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 support</a:t>
            </a:r>
            <a:r>
              <a:rPr b="1" lang="pt-BR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 ?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53f2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Adequate environment support</a:t>
            </a:r>
            <a:r>
              <a:rPr b="1" lang="pt-BR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 ?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53f2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Regulatory compliance ?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3059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a2c00"/>
                </a:solidFill>
                <a:latin typeface="Arial"/>
              </a:rPr>
              <a:t>Pre-Acquisition Considerations</a:t>
            </a:r>
            <a:endParaRPr b="1" lang="en-US" sz="32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Are there qualified users in the healthcare facility?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Are maintenance services confirmed?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Are there adequate environment supports e.g adequate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53f2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653f25"/>
                </a:solidFill>
                <a:latin typeface="Arial"/>
                <a:ea typeface="Times New Roman"/>
              </a:rPr>
              <a:t>electrical supplies</a:t>
            </a:r>
            <a:endParaRPr b="0" lang="en-US" sz="2400" spc="-1" strike="noStrike">
              <a:solidFill>
                <a:srgbClr val="653f2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53f2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653f25"/>
                </a:solidFill>
                <a:latin typeface="Arial"/>
                <a:ea typeface="Times New Roman"/>
              </a:rPr>
              <a:t>clean water</a:t>
            </a:r>
            <a:endParaRPr b="0" lang="en-US" sz="2400" spc="-1" strike="noStrike">
              <a:solidFill>
                <a:srgbClr val="653f2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53f2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653f25"/>
                </a:solidFill>
                <a:latin typeface="Arial"/>
                <a:ea typeface="Times New Roman"/>
              </a:rPr>
              <a:t>clean rooms</a:t>
            </a:r>
            <a:endParaRPr b="0" lang="en-US" sz="2400" spc="-1" strike="noStrike">
              <a:solidFill>
                <a:srgbClr val="653f2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53f2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653f25"/>
                </a:solidFill>
                <a:latin typeface="Arial"/>
                <a:ea typeface="Times New Roman"/>
              </a:rPr>
              <a:t>acceptable ambient temperature and humidity</a:t>
            </a:r>
            <a:endParaRPr b="0" lang="en-US" sz="2400" spc="-1" strike="noStrike">
              <a:solidFill>
                <a:srgbClr val="653f2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3f25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a2c00"/>
                </a:solidFill>
                <a:latin typeface="Arial"/>
              </a:rPr>
              <a:t>Device/Equipment </a:t>
            </a:r>
            <a:br>
              <a:rPr sz="3200"/>
            </a:br>
            <a:r>
              <a:rPr b="1" lang="pt-BR" sz="3200" spc="-1" strike="noStrike">
                <a:solidFill>
                  <a:srgbClr val="ba2c00"/>
                </a:solidFill>
                <a:latin typeface="Arial"/>
              </a:rPr>
              <a:t>Pre-acquisition Questions</a:t>
            </a:r>
            <a:endParaRPr b="1" lang="en-US" sz="32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653f25"/>
                </a:solidFill>
                <a:latin typeface="Arial"/>
                <a:ea typeface="Times New Roman"/>
              </a:rPr>
              <a:t>Are there qualified users in the healthcare facility?</a:t>
            </a: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653f25"/>
                </a:solidFill>
                <a:latin typeface="Arial"/>
                <a:ea typeface="Times New Roman"/>
              </a:rPr>
              <a:t>Are maintenance services confirmed?</a:t>
            </a: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653f25"/>
                </a:solidFill>
                <a:latin typeface="Arial"/>
                <a:ea typeface="Times New Roman"/>
              </a:rPr>
              <a:t>Are there adequate environment supports such as adequate electrical supplies, clean water, clean rooms, acceptable ambient temperature and humidity?</a:t>
            </a: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6294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3614-7D3B-46D1-9F97-5FA78EEE9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-152280"/>
            <a:ext cx="9143640" cy="7619760"/>
            <a:chOff x="0" y="-152280"/>
            <a:chExt cx="9143640" cy="7619760"/>
          </a:xfrm>
        </p:grpSpPr>
        <p:pic>
          <p:nvPicPr>
            <p:cNvPr id="58" name="" descr="Map of Africa"/>
            <p:cNvPicPr/>
            <p:nvPr/>
          </p:nvPicPr>
          <p:blipFill>
            <a:blip r:embed="rId2"/>
            <a:stretch/>
          </p:blipFill>
          <p:spPr>
            <a:xfrm>
              <a:off x="0" y="-152280"/>
              <a:ext cx="9143640" cy="76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4510440" y="5664240"/>
              <a:ext cx="1829160" cy="1012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735280" y="5715000"/>
            <a:ext cx="115092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a2c00"/>
                </a:solidFill>
                <a:latin typeface="Arial"/>
              </a:rPr>
              <a:t>All Device/Equipment </a:t>
            </a:r>
            <a:br>
              <a:rPr sz="3200"/>
            </a:br>
            <a:r>
              <a:rPr b="1" lang="pt-BR" sz="3200" spc="-1" strike="noStrike">
                <a:solidFill>
                  <a:srgbClr val="ba2c00"/>
                </a:solidFill>
                <a:latin typeface="Arial"/>
              </a:rPr>
              <a:t>Use, Maintenance, Disposal</a:t>
            </a:r>
            <a:r>
              <a:rPr b="1" lang="pt-BR" sz="3600" spc="-1" strike="noStrike">
                <a:solidFill>
                  <a:srgbClr val="ba2c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7080" y="1716120"/>
            <a:ext cx="83455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On</a:t>
            </a:r>
            <a:r>
              <a:rPr b="1" lang="en-CA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ly qualified users use medical devices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P</a:t>
            </a:r>
            <a:r>
              <a:rPr b="1" lang="en-CA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olicy and procedures are in place for </a:t>
            </a:r>
            <a:r>
              <a:rPr b="1" lang="pt-BR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the </a:t>
            </a:r>
            <a:r>
              <a:rPr b="1" lang="en-CA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training of each new user for safe and effective use of medical devices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I</a:t>
            </a:r>
            <a:r>
              <a:rPr b="1" lang="en-CA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n-house personnel and facilities, outsourced third party, or a combination of in-house and outsourced services are adequate for the maintenance of medical devices</a:t>
            </a:r>
            <a:r>
              <a:rPr b="1" lang="en-CA" sz="2800" spc="-1" strike="noStrike">
                <a:solidFill>
                  <a:srgbClr val="653f2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53f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P</a:t>
            </a:r>
            <a:r>
              <a:rPr b="1" lang="en-CA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olicy and procedures are in place</a:t>
            </a:r>
            <a:r>
              <a:rPr b="1" lang="pt-BR" sz="2800" spc="-1" strike="noStrike">
                <a:solidFill>
                  <a:srgbClr val="653f25"/>
                </a:solidFill>
                <a:latin typeface="Arial"/>
                <a:ea typeface="Times New Roman"/>
              </a:rPr>
              <a:t> for appropriate disposal of used medical devices/equipment</a:t>
            </a:r>
            <a:endParaRPr b="0" lang="en-US" sz="2800" spc="-1" strike="noStrike">
              <a:solidFill>
                <a:srgbClr val="653f25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72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2c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6294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87AE-AFAC-43D8-93E5-08A64B689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pic>
        <p:nvPicPr>
          <p:cNvPr id="63" name="" descr="Map of Africa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619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7200" y="1255680"/>
            <a:ext cx="6934320" cy="5648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57200" y="1268280"/>
            <a:ext cx="1447920" cy="11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2c00"/>
                </a:solidFill>
                <a:latin typeface="Arial"/>
              </a:rPr>
              <a:t>Brief Country Profile</a:t>
            </a: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opulation: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49.9 Million</a:t>
            </a:r>
            <a:endParaRPr b="0" lang="en-US" sz="2400" spc="-1" strike="noStrike">
              <a:solidFill>
                <a:srgbClr val="653f25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ealth Expenditure:  8.7% of GDP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653f25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wo-tier healthcare system (public &amp; private sector)</a:t>
            </a:r>
            <a:endParaRPr b="0" lang="en-US" sz="2400" spc="-1" strike="noStrike">
              <a:solidFill>
                <a:srgbClr val="653f25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outh Africa’s Burden of Disease (BoD)</a:t>
            </a:r>
            <a:endParaRPr b="0" lang="en-US" sz="2400" spc="-1" strike="noStrike">
              <a:solidFill>
                <a:srgbClr val="653f25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HIV &amp; AIDS and TB; 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High Maternal and Child Mortality; 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Non-Communicable Diseases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Violence and Injuries;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ain Goals/outputs</a:t>
            </a:r>
            <a:endParaRPr b="0" lang="en-US" sz="2400" spc="-1" strike="noStrike">
              <a:solidFill>
                <a:srgbClr val="653f25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en-ZA" sz="2000" spc="-1" strike="noStrike">
                <a:solidFill>
                  <a:srgbClr val="800000"/>
                </a:solidFill>
                <a:latin typeface="Arial"/>
              </a:rPr>
              <a:t>-  Increasing life expectancy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-  Decreasing maternal and child mortality 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-  Combating HIV &amp; AIDS as well as STIs and decreasing the  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  burden of disease from tuberculosis 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-  Strengthening Health System effectiveness focusing on (NHI, 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  Quality improvement, Strengthening Infrastructure incl HT, 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  HR, PHC approach…)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2c00"/>
                </a:solidFill>
                <a:latin typeface="Arial"/>
              </a:rPr>
              <a:t>Medical Devices</a:t>
            </a: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A Major trading partners (EU, USA, Japan - India, China &amp; Brazil growing)</a:t>
            </a:r>
            <a:endParaRPr b="0" lang="en-US" sz="2400" spc="-1" strike="noStrike">
              <a:solidFill>
                <a:srgbClr val="653f25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Largely an importing country with a small but growing local medical device manufacturing capacity</a:t>
            </a:r>
            <a:endParaRPr b="0" lang="en-US" sz="2400" spc="-1" strike="noStrike">
              <a:solidFill>
                <a:srgbClr val="653f25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ain challenges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-  Inadequate system of safety &amp; performance inspection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-  No system of equipment recall &amp; hazard notification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-  Limited obligations to comply with regulatory requirements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-  +/-25% of all medical equipment is unusable or unused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-  No regulations to compel industry to provide comprehensive 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  after-sale service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-  No post market vigilance system 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-  Poor maintenance practices (especially in public service)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-  General poor management of health technology</a:t>
            </a: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53f25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3f25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3f25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417600" y="-52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2280" y="152280"/>
          <a:ext cx="8763120" cy="6523200"/>
        </p:xfrm>
        <a:graphic>
          <a:graphicData uri="http://schemas.openxmlformats.org/drawingml/2006/table">
            <a:tbl>
              <a:tblPr/>
              <a:tblGrid>
                <a:gridCol w="4037040"/>
                <a:gridCol w="4726080"/>
              </a:tblGrid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T ST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GIS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zardous Substances A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for Radiation Control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The National Health Act provides appropriate base for regulating medical de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Medicines and Related Substances Amendment Act (72) (which provides for the control of Medicines, MD &amp; IVDD incl. establishment of SAHP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list could be arbitrary without a unified system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 devices may not be legally inclu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international risk-based and rule-based classification system to be adop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HOR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epts the CE m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y assessment with SA national standards and DoH cri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SYSTEM &amp; AUDI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epts EU Notified Body assessment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cal assessment by agencies with SANAS accred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-415800" y="62960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0" y="4495680"/>
          <a:ext cx="9143640" cy="2362320"/>
        </p:xfrm>
        <a:graphic>
          <a:graphicData uri="http://schemas.openxmlformats.org/drawingml/2006/table">
            <a:tbl>
              <a:tblPr/>
              <a:tblGrid>
                <a:gridCol w="4532040"/>
                <a:gridCol w="4611600"/>
              </a:tblGrid>
              <a:tr h="236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MARKET SURVEIL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 product defec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1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ll includ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1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blem monitoring  &amp;  repor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1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lant regis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1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all proced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1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aint hand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1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system follow-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417600" y="-52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" y="304920"/>
          <a:ext cx="8763120" cy="4155840"/>
        </p:xfrm>
        <a:graphic>
          <a:graphicData uri="http://schemas.openxmlformats.org/drawingml/2006/table">
            <a:tbl>
              <a:tblPr/>
              <a:tblGrid>
                <a:gridCol w="4343400"/>
                <a:gridCol w="4419720"/>
              </a:tblGrid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T STA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FT REGUL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BLISHMENT LICEN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verns only vendors for </a:t>
                      </a:r>
                      <a:r>
                        <a:rPr b="0" lang="en-CA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listed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lectro-medical de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ludes vendors of all medical de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concept of License Holder will be applied to all de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1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TER SALE OBLIG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1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ly to keep distribution recor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1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ification of product defects or non-compli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1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hibition of modification and repair of listed produ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rehensive after-sale obligations will be required, including post-market surveill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so includes service training &amp; 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-415800" y="62960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2c00"/>
                </a:solidFill>
                <a:latin typeface="Arial"/>
              </a:rPr>
              <a:t>LEVEL 1</a:t>
            </a:r>
            <a:endParaRPr b="1" lang="en-US" sz="3600" spc="-1" strike="noStrike">
              <a:solidFill>
                <a:srgbClr val="ba2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3f25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a2c00"/>
                </a:solidFill>
                <a:latin typeface="Arial"/>
              </a:rPr>
              <a:t>Three Levels of Medical Device Regulations</a:t>
            </a:r>
            <a:endParaRPr b="1" lang="en-US" sz="3200" spc="-1" strike="noStrike">
              <a:solidFill>
                <a:srgbClr val="ba2c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62120" y="1600200"/>
            <a:ext cx="8076240" cy="4229280"/>
            <a:chOff x="762120" y="1600200"/>
            <a:chExt cx="8076240" cy="4229280"/>
          </a:xfrm>
        </p:grpSpPr>
        <p:grpSp>
          <p:nvGrpSpPr>
            <p:cNvPr id="81" name=""/>
            <p:cNvGrpSpPr/>
            <p:nvPr/>
          </p:nvGrpSpPr>
          <p:grpSpPr>
            <a:xfrm>
              <a:off x="3438360" y="3268800"/>
              <a:ext cx="2656800" cy="1067400"/>
              <a:chOff x="3438360" y="3268800"/>
              <a:chExt cx="2656800" cy="1067400"/>
            </a:xfrm>
          </p:grpSpPr>
          <p:sp>
            <p:nvSpPr>
              <p:cNvPr id="82" name=""/>
              <p:cNvSpPr/>
              <p:nvPr/>
            </p:nvSpPr>
            <p:spPr>
              <a:xfrm>
                <a:off x="3961800" y="3268800"/>
                <a:ext cx="2133360" cy="10674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eds Assess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ealth Technology Assessment (HTA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3" name=""/>
              <p:cNvCxnSpPr>
                <a:endCxn id="82" idx="1"/>
              </p:cNvCxnSpPr>
              <p:nvPr/>
            </p:nvCxnSpPr>
            <p:spPr>
              <a:xfrm>
                <a:off x="3438360" y="3812760"/>
                <a:ext cx="5144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84" name=""/>
            <p:cNvGrpSpPr/>
            <p:nvPr/>
          </p:nvGrpSpPr>
          <p:grpSpPr>
            <a:xfrm>
              <a:off x="6105240" y="2857680"/>
              <a:ext cx="2733120" cy="966600"/>
              <a:chOff x="6105240" y="2857680"/>
              <a:chExt cx="2733120" cy="966600"/>
            </a:xfrm>
          </p:grpSpPr>
          <p:sp>
            <p:nvSpPr>
              <p:cNvPr id="85" name=""/>
              <p:cNvSpPr/>
              <p:nvPr/>
            </p:nvSpPr>
            <p:spPr>
              <a:xfrm>
                <a:off x="6705000" y="2857680"/>
                <a:ext cx="2133360" cy="58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Qualified 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afe/Effective u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6" name=""/>
              <p:cNvCxnSpPr>
                <a:stCxn id="82" idx="3"/>
                <a:endCxn id="85" idx="1"/>
              </p:cNvCxnSpPr>
              <p:nvPr/>
            </p:nvCxnSpPr>
            <p:spPr>
              <a:xfrm flipV="1">
                <a:off x="6105240" y="3157200"/>
                <a:ext cx="591120" cy="667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87" name=""/>
            <p:cNvGrpSpPr/>
            <p:nvPr/>
          </p:nvGrpSpPr>
          <p:grpSpPr>
            <a:xfrm>
              <a:off x="6105240" y="3812760"/>
              <a:ext cx="2733120" cy="825480"/>
              <a:chOff x="6105240" y="3812760"/>
              <a:chExt cx="2733120" cy="825480"/>
            </a:xfrm>
          </p:grpSpPr>
          <p:sp>
            <p:nvSpPr>
              <p:cNvPr id="88" name=""/>
              <p:cNvSpPr/>
              <p:nvPr/>
            </p:nvSpPr>
            <p:spPr>
              <a:xfrm>
                <a:off x="6705000" y="4057560"/>
                <a:ext cx="2133360" cy="58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ood Management Practice (GMtP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9" name=""/>
              <p:cNvCxnSpPr>
                <a:stCxn id="82" idx="3"/>
                <a:endCxn id="88" idx="1"/>
              </p:cNvCxnSpPr>
              <p:nvPr/>
            </p:nvCxnSpPr>
            <p:spPr>
              <a:xfrm>
                <a:off x="6105240" y="3812760"/>
                <a:ext cx="591120" cy="545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90" name=""/>
            <p:cNvGrpSpPr/>
            <p:nvPr/>
          </p:nvGrpSpPr>
          <p:grpSpPr>
            <a:xfrm>
              <a:off x="1981080" y="1600200"/>
              <a:ext cx="6095160" cy="4229280"/>
              <a:chOff x="1981080" y="1600200"/>
              <a:chExt cx="6095160" cy="422928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3657240" y="1866960"/>
                <a:ext cx="2666520" cy="3962520"/>
                <a:chOff x="3657240" y="1866960"/>
                <a:chExt cx="2666520" cy="39625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657240" y="1866960"/>
                  <a:ext cx="0" cy="3962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323760" y="1866960"/>
                  <a:ext cx="0" cy="3962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981080" y="1600200"/>
                <a:ext cx="6095160" cy="459720"/>
                <a:chOff x="1981080" y="1600200"/>
                <a:chExt cx="6095160" cy="4597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981080" y="1600200"/>
                  <a:ext cx="837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419000" y="1600200"/>
                  <a:ext cx="838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I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238520" y="1600200"/>
                  <a:ext cx="837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II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" name=""/>
            <p:cNvSpPr/>
            <p:nvPr/>
          </p:nvSpPr>
          <p:spPr>
            <a:xfrm>
              <a:off x="1600200" y="2019240"/>
              <a:ext cx="16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38480" y="201924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L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05360" y="2057400"/>
              <a:ext cx="18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TILIS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120" y="3124440"/>
              <a:ext cx="2666880" cy="1310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rket Avail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fety &amp; Perform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HTF Guide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st Market Oblig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21:13:22Z</dcterms:created>
  <dc:creator>*</dc:creator>
  <dc:description/>
  <dc:language>en-US</dc:language>
  <cp:lastModifiedBy>NDOH-LAPTOP</cp:lastModifiedBy>
  <dcterms:modified xsi:type="dcterms:W3CDTF">2010-11-28T11:56:40Z</dcterms:modified>
  <cp:revision>225</cp:revision>
  <dc:subject/>
  <dc:title>Interdepartmental Support Programme (IDSP)</dc:title>
</cp:coreProperties>
</file>