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7A04F-C0F9-40BF-8580-15AE5C48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4280" y="3474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ABB57-CCED-45AB-BC59-F6C2EC01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296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D0B3-4E99-4E18-9FA9-5F2E0F4C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388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384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428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388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384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4EC77-D938-47B5-9415-60A3A330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55F52-B66E-40E9-AA1A-683AB5B6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7FA89-068E-4BA8-B367-96AB1522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DDFAE-0020-41D6-B38D-2311475A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A47F4-0280-4D5D-B38D-7DA789AE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86055-306A-4BB1-8AA5-67865A63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84280" y="139320"/>
            <a:ext cx="838368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C9318-519E-4EA9-A5A7-528CAF16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9A083-F3DF-476E-BF0B-C88637C4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0A88-6EA4-4052-B9AF-3104E5AD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7296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73813-2FCB-4561-9063-2C695826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6913E-F43F-4625-ACBE-36CAD25D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4280" y="3474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1BE2E-3BF2-4A75-8D74-44C40FB6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7296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089CE-1F68-4B93-AFE0-09CD2F68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388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384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8428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388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384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A3CEE-DE26-4F2A-BCDC-1A0F473E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C9676-9C9A-4363-9F82-30B3F050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28F67-031D-411D-BEB5-A8FF4924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6B308-2C03-41FA-A6CF-6852DE7C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C1050-DC4B-4446-AE54-971BB77D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8C253-28A2-494A-9A08-0995DBD9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DCE5-E856-452C-AA1C-16AF47F8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84280" y="139320"/>
            <a:ext cx="838368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11CF2-1E87-4E71-8A8E-99CC41AA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EAD79-0DAF-43A6-8F51-E1818A87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7296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97CF8-E5D6-45FD-B923-B0D1B6B1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5F6E5-4180-49C6-8747-6B0F712D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4280" y="3474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77AAC-55B5-4848-B9F7-CEC9A1AF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7296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14EB2-E568-4E0C-AD69-8122FB64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1388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4384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8428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1388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4384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344CE-1F35-4199-853F-33189D87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01A5-003E-483E-ABDA-50D2C4F1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84280" y="139320"/>
            <a:ext cx="838368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7296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84280" y="3474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7296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1388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4384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8428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1388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4384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60ACB0-1E7B-40AC-9D1E-038E9935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0AA1-FCE0-4E44-92A8-419F49A5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93F32-3895-48C2-AFE0-BAF0C6F0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D4E708-C1C2-442E-9931-AE30B071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6F7AD3-8B45-40A4-B7B1-FE3A71A1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294AFB-36D1-4E58-82CD-D8892A4E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84280" y="139320"/>
            <a:ext cx="838368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312FBE-B965-4122-B96A-28F1CFCE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D66B2-C2DB-4673-9869-B9B9D19A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87296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4DD35-1BF8-4D80-AAD6-65EAEA14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0582D-DC28-4DE0-89A0-5FAEC2A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84280" y="3474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B803D0-4160-467F-BC90-5FE91CFD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87296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4B2B3-C843-49A0-8E7C-80D887A1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4280" y="139320"/>
            <a:ext cx="838368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68A4-9074-4639-8046-B54D7F46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41388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4384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8428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41388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4384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78770-7D21-40CC-B060-0A8F570E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629D2-FF59-453C-9006-D10DB30E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96AE9-6E3C-48F0-B39D-203710A6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12B05-514E-4F15-9D15-10DA7B02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177AC-2911-4988-9265-665576DC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2F7C3-EA47-47B6-8C99-041559F1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584280" y="139320"/>
            <a:ext cx="838368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B20947-7257-49FB-A9A6-83F3DFEC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253A0-A32A-4EF1-8603-2B5B9C11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7296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75E08-E751-4DBD-B5A7-0168A97F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1B3D0-FD9B-46D0-8B56-EBE9D3E7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795C-DC3B-4A9D-BECB-14DF6109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84280" y="3474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DD358-4B53-4D44-80EE-B229CAE2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7296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8EA614-A0E0-481E-A1ED-B7DD56CE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41388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43840" y="1143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8428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41388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243840" y="3474000"/>
            <a:ext cx="2694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1248B-1B2D-4985-A041-8C42B850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2960" y="3474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F4892-23B7-4353-996E-C7D51CD1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2960" y="1143000"/>
            <a:ext cx="40842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4280" y="3474000"/>
            <a:ext cx="836928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2A22B-19F6-4C1F-9568-36B375BF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6d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1375"/>
              </a:spcAft>
              <a:buClr>
                <a:srgbClr val="2a8d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7160">
              <a:spcAft>
                <a:spcPts val="1375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-225720">
              <a:spcAft>
                <a:spcPts val="1375"/>
              </a:spcAft>
              <a:buClr>
                <a:srgbClr val="b5b5b5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12960" indent="-227160">
              <a:spcAft>
                <a:spcPts val="137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12960" indent="-227160">
              <a:spcAft>
                <a:spcPts val="137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12960" indent="-227160">
              <a:spcAft>
                <a:spcPts val="137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97040" y="6381720"/>
            <a:ext cx="1517760" cy="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15th AHWP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Nov 28, 2010, Riyadh/ K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70520" y="638136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1429-A973-44CF-8AD4-A78989B6C77E}" type="slidenum"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4420800" y="638136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© 2010 Abbo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7840" y="855360"/>
            <a:ext cx="594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d6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503080" y="617040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5402160" y="6170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952440" y="617040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0"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30040" algn="ctr"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58640" algn="ctr">
              <a:spcAft>
                <a:spcPts val="524"/>
              </a:spcAft>
              <a:buClr>
                <a:srgbClr val="b5b5b5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685800" algn="ctr"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85800"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85800"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5080" y="139320"/>
            <a:ext cx="83725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6d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5080" y="1143000"/>
            <a:ext cx="83581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1375"/>
              </a:spcAft>
              <a:buClr>
                <a:srgbClr val="2a8d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7160">
              <a:spcAft>
                <a:spcPts val="1375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-225720">
              <a:spcAft>
                <a:spcPts val="1375"/>
              </a:spcAft>
              <a:buClr>
                <a:srgbClr val="b5b5b5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12960" indent="-227160">
              <a:spcAft>
                <a:spcPts val="137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12960" indent="-227160">
              <a:spcAft>
                <a:spcPts val="137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12960" indent="-227160">
              <a:spcAft>
                <a:spcPts val="137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971440" y="638136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Presentation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Date</a:t>
            </a: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5870520" y="638136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5F6D-38B6-41EA-ACB6-8509F40DD534}" type="slidenum"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420800" y="638136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Company Confidential</a:t>
            </a:r>
            <a:br>
              <a:rPr sz="800"/>
            </a:b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© 200X Abbo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17840" y="902880"/>
            <a:ext cx="594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d6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96d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5080" y="139320"/>
            <a:ext cx="83725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6d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595080" y="1143000"/>
            <a:ext cx="83581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1375"/>
              </a:spcAft>
              <a:buClr>
                <a:srgbClr val="2a8d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7160">
              <a:spcAft>
                <a:spcPts val="1375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-225720">
              <a:spcAft>
                <a:spcPts val="1375"/>
              </a:spcAft>
              <a:buClr>
                <a:srgbClr val="b5b5b5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12960" indent="-227160">
              <a:spcAft>
                <a:spcPts val="137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12960" indent="-227160">
              <a:spcAft>
                <a:spcPts val="137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12960" indent="-227160">
              <a:spcAft>
                <a:spcPts val="137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2971440" y="638136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Presentation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Date</a:t>
            </a: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1"/>
          </p:nvPr>
        </p:nvSpPr>
        <p:spPr>
          <a:xfrm>
            <a:off x="5870520" y="638136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6A93-6B47-4373-AF19-2AC00A6344FC}" type="slidenum"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12"/>
          </p:nvPr>
        </p:nvSpPr>
        <p:spPr>
          <a:xfrm>
            <a:off x="4420800" y="638136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Company Confidential</a:t>
            </a:r>
            <a:br>
              <a:rPr sz="800"/>
            </a:b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© 200X Abbo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95080" y="139320"/>
            <a:ext cx="83725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6d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95080" y="1143000"/>
            <a:ext cx="83581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1375"/>
              </a:spcAft>
              <a:buClr>
                <a:srgbClr val="2a8d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7160">
              <a:spcAft>
                <a:spcPts val="1375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-225720">
              <a:spcAft>
                <a:spcPts val="1375"/>
              </a:spcAft>
              <a:buClr>
                <a:srgbClr val="b5b5b5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12960" indent="-227160">
              <a:spcAft>
                <a:spcPts val="137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12960" indent="-227160">
              <a:spcAft>
                <a:spcPts val="137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12960" indent="-227160">
              <a:spcAft>
                <a:spcPts val="137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2971440" y="638136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Presentation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Date</a:t>
            </a: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4"/>
          </p:nvPr>
        </p:nvSpPr>
        <p:spPr>
          <a:xfrm>
            <a:off x="5870520" y="638136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FD45-7998-4261-A3EC-74AC9C0A95F4}" type="slidenum"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5"/>
          </p:nvPr>
        </p:nvSpPr>
        <p:spPr>
          <a:xfrm>
            <a:off x="4420800" y="638136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Company Confidential</a:t>
            </a:r>
            <a:br>
              <a:rPr sz="800"/>
            </a:b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© 200X Abbo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ffice.microsoft.com/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17840" y="855360"/>
            <a:ext cx="594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6d6"/>
                </a:solidFill>
                <a:latin typeface="Arial"/>
              </a:rPr>
              <a:t>STED and CSDT for IVDs – </a:t>
            </a:r>
            <a:br>
              <a:rPr sz="2400"/>
            </a:br>
            <a:r>
              <a:rPr b="1" lang="en-US" sz="2400" spc="-1" strike="noStrike">
                <a:solidFill>
                  <a:srgbClr val="0096d6"/>
                </a:solidFill>
                <a:latin typeface="Arial"/>
              </a:rPr>
              <a:t>Technical Documentation for the Regulatory Review under GHTF and AHWP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33440" y="5567400"/>
            <a:ext cx="6342120" cy="8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. Petra Kaars-Wi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 International Regulatory Affairs/ Affiliate Compliance, Abbott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5th AHWP Meeting, November 28, 2010, Riyadh/ Kingdom of Saudi Ara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4A7B2-0E1B-4D1C-992C-EF9F83BD53EF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6d6"/>
                </a:solidFill>
                <a:latin typeface="Arial"/>
              </a:rPr>
              <a:t>STED – When is it used?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2a8dba"/>
                </a:solidFill>
                <a:latin typeface="Arial"/>
              </a:rPr>
              <a:t>Premark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D for Class C and D devices to be prepared and submitted to Regulatory Authority (RA) or Conformity Assessment Body (C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ufacturer should always retain a copy for any STED submitted for future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Fotos,Geschäft,Geschäfte,Geschäftsleute,Geschäftsmetaphern,Hände,Leute,Männer,Metaphern,Rennen,Sport,Stabübergabe,Stabwechsel,Staffelläufe,Staffeln,Staffelstäbe,Teams,Teamwork,Zusammen arbeiten"/>
          <p:cNvPicPr/>
          <p:nvPr/>
        </p:nvPicPr>
        <p:blipFill>
          <a:blip r:embed="rId2"/>
          <a:stretch/>
        </p:blipFill>
        <p:spPr>
          <a:xfrm>
            <a:off x="5754600" y="3444840"/>
            <a:ext cx="2292480" cy="229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77A0-B228-483C-AA44-060565D89F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6d6"/>
                </a:solidFill>
                <a:latin typeface="Arial"/>
              </a:rPr>
              <a:t>STED – When is it used?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2a8dba"/>
                </a:solidFill>
                <a:latin typeface="Arial"/>
              </a:rPr>
              <a:t>Post-Mark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bmitted upon request of a Regulatory Authority (RA) or Conformity Assessment Body (C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7160">
              <a:spcAft>
                <a:spcPts val="675"/>
              </a:spcAft>
              <a:buClr>
                <a:srgbClr val="2a8dba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 demonstrate continued conformity of a Class C or D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7160">
              <a:spcAft>
                <a:spcPts val="675"/>
              </a:spcAft>
              <a:buClr>
                <a:srgbClr val="2a8dba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 investigate conformity of a Class A or B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2a8dba"/>
                </a:solidFill>
                <a:latin typeface="Arial"/>
              </a:rPr>
              <a:t>B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STED is not usually used to assist in any post market investigation of medic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0A531-00E1-497E-B09C-738ED69E393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6d6"/>
                </a:solidFill>
                <a:latin typeface="Arial"/>
              </a:rPr>
              <a:t>CSDT = Common Submission Dossier Template</a:t>
            </a:r>
            <a:br>
              <a:rPr sz="2400"/>
            </a:b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8600" indent="-227160">
              <a:spcAft>
                <a:spcPts val="975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HWP WG1 developed the draft document in their last version from 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75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raft document can be found on </a:t>
            </a:r>
            <a:r>
              <a:rPr b="0" lang="de-DE" sz="2600" spc="-1" strike="noStrike">
                <a:solidFill>
                  <a:srgbClr val="2a8dba"/>
                </a:solidFill>
                <a:latin typeface="Arial"/>
              </a:rPr>
              <a:t>www.ahwp.inf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75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 final document published y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75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urrently discussed within the AHWP Technical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7AC8-A49C-4F34-A98A-1F581543009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6d6"/>
                </a:solidFill>
                <a:latin typeface="Arial"/>
              </a:rPr>
              <a:t>CSDT and STED: Two of a Kind? Yes and No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54040" y="725400"/>
            <a:ext cx="83692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8600" indent="-227160">
              <a:lnSpc>
                <a:spcPct val="80000"/>
              </a:lnSpc>
              <a:spcAft>
                <a:spcPts val="6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stantially both documents are the s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lnSpc>
                <a:spcPct val="80000"/>
              </a:lnSpc>
              <a:spcAft>
                <a:spcPts val="6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SDT describes one document for all Medical Devices (some language is not related to IVD Medical Devic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lnSpc>
                <a:spcPct val="80000"/>
              </a:lnSpc>
              <a:spcAft>
                <a:spcPts val="6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SDT request an executive summary, while STED request a description of th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lnSpc>
                <a:spcPct val="80000"/>
              </a:lnSpc>
              <a:spcAft>
                <a:spcPts val="6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D has a risk based conformity assessment frame work  (established guidance on respective requirements on e.g. QMS, safety and performance evaluation, PMS for each class of dev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lnSpc>
                <a:spcPct val="80000"/>
              </a:lnSpc>
              <a:spcAft>
                <a:spcPts val="6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fference in requirement on the detail of manufacturing processes (interpretation or fac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lnSpc>
                <a:spcPct val="80000"/>
              </a:lnSpc>
              <a:spcAft>
                <a:spcPts val="6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concept of "pre- and post-market use of STED" does not have its counterpart in CSD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lnSpc>
                <a:spcPct val="80000"/>
              </a:lnSpc>
              <a:spcAft>
                <a:spcPts val="6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SDT does not give focus on performance evaluation for IV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lnSpc>
                <a:spcPct val="80000"/>
              </a:lnSpc>
              <a:spcAft>
                <a:spcPts val="6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SDT does not elaborate on the use of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EBCF7-54F5-4A27-A517-FD37EB403D2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6d6"/>
                </a:solidFill>
                <a:latin typeface="Arial"/>
              </a:rPr>
              <a:t>One Summary Technical Documentation – </a:t>
            </a:r>
            <a:br>
              <a:rPr sz="2400"/>
            </a:br>
            <a:r>
              <a:rPr b="1" lang="de-DE" sz="2400" spc="-1" strike="noStrike">
                <a:solidFill>
                  <a:srgbClr val="0096d6"/>
                </a:solidFill>
                <a:latin typeface="Arial"/>
              </a:rPr>
              <a:t>Potential Benefits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1440" y="2678040"/>
            <a:ext cx="8602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oal of STED (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Regulator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erspecti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provide improved access to new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reduce the burden on the regulators by promoting a review of documents presented in a consistent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provide direction to those markets developing device regulations for the firs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Berufe,Dominoeffekte,Dominosteine,fallen,Finger,Fotografien,Geschäftswelt,Hände,Kettenreaktion,kippen,Metaphern,schieben,Spiegelungen,zeigen"/>
          <p:cNvPicPr/>
          <p:nvPr/>
        </p:nvPicPr>
        <p:blipFill>
          <a:blip r:embed="rId2"/>
          <a:stretch/>
        </p:blipFill>
        <p:spPr>
          <a:xfrm>
            <a:off x="6146640" y="654120"/>
            <a:ext cx="2748240" cy="21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B348-A599-4C46-A1BE-C4F35C4713C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6d6"/>
                </a:solidFill>
                <a:latin typeface="Arial"/>
              </a:rPr>
              <a:t>One Summary Technical Documentation  – </a:t>
            </a:r>
            <a:br>
              <a:rPr sz="2400"/>
            </a:br>
            <a:r>
              <a:rPr b="1" lang="de-DE" sz="2400" spc="-1" strike="noStrike">
                <a:solidFill>
                  <a:srgbClr val="0096d6"/>
                </a:solidFill>
                <a:latin typeface="Arial"/>
              </a:rPr>
              <a:t>Potential Benefits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oal of STED (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Manufacturer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erspecti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reduce the burden on manufacturers of conflicting pre-market submission formats and uniqu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permit the creation of one core dossier for all 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minimize regulato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facilitate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Ablagesysteme,Akten,Angestellte,Archivar,Arme,Aufzeichnungen,Berufe,Bürobedarf,Hände,Ordner,Photographien"/>
          <p:cNvPicPr/>
          <p:nvPr/>
        </p:nvPicPr>
        <p:blipFill>
          <a:blip r:embed="rId2"/>
          <a:stretch/>
        </p:blipFill>
        <p:spPr>
          <a:xfrm>
            <a:off x="5775480" y="2997360"/>
            <a:ext cx="2790720" cy="27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95DF1-0751-4161-A2FF-DEF9C240BA5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6d6"/>
                </a:solidFill>
                <a:latin typeface="Arial"/>
              </a:rPr>
              <a:t>One Summary Technical Documentation – </a:t>
            </a:r>
            <a:br>
              <a:rPr sz="2400"/>
            </a:br>
            <a:r>
              <a:rPr b="1" lang="de-DE" sz="2400" spc="-1" strike="noStrike">
                <a:solidFill>
                  <a:srgbClr val="0096d6"/>
                </a:solidFill>
                <a:latin typeface="Arial"/>
              </a:rPr>
              <a:t>Win-Win for all Stakeholders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a8dba"/>
                </a:solidFill>
                <a:latin typeface="Arial"/>
              </a:rPr>
              <a:t>The implementation of one set of Summary Technical Documentation for IVD Medical Devices is a win-win opportunity for regulators and manufacturers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Applaus,Ausdrücke,Beifall,Frauen,Geschäfte,Geschäftsfrau,Geschäftsleute,Klatschen,Lächeln,Lächelnd,Leute,Männer,Photographien"/>
          <p:cNvPicPr/>
          <p:nvPr/>
        </p:nvPicPr>
        <p:blipFill>
          <a:blip r:embed="rId2"/>
          <a:stretch/>
        </p:blipFill>
        <p:spPr>
          <a:xfrm>
            <a:off x="5275440" y="922320"/>
            <a:ext cx="2760480" cy="28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B1E77-C755-44B3-BAFB-5CFC6C32F65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550368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96d6"/>
                </a:solidFill>
                <a:latin typeface="Arial"/>
              </a:rPr>
              <a:t>Pictures are from Microsoft : </a:t>
            </a:r>
            <a:r>
              <a:rPr b="0" lang="de-DE" sz="1200" spc="-1" strike="noStrike" u="sng">
                <a:solidFill>
                  <a:srgbClr val="c6e4ee"/>
                </a:solidFill>
                <a:uFillTx/>
                <a:latin typeface="Arial"/>
                <a:hlinkClick r:id="rId2"/>
              </a:rPr>
              <a:t>www.office.microsoft.com</a:t>
            </a:r>
            <a:r>
              <a:rPr b="0" lang="de-DE" sz="1200" spc="-1" strike="noStrike">
                <a:solidFill>
                  <a:srgbClr val="0096d6"/>
                </a:solidFill>
                <a:latin typeface="Arial"/>
              </a:rPr>
              <a:t>, except cover page (copyright is with Abbott)</a:t>
            </a:r>
            <a:endParaRPr b="0" lang="en-US" sz="12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74560" y="78732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2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2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2a8dba"/>
                </a:solidFill>
                <a:latin typeface="Arial"/>
              </a:rPr>
              <a:t>Thank you for your attention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2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2a8dba"/>
                </a:solidFill>
                <a:latin typeface="Arial"/>
              </a:rPr>
              <a:t>Question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Berufe,Biochemie,Biochemiker,Chemie,Chemiker,Flaschen,Fotos,Frauen,Gesundheitswesen,Gummihandschuhe,Laborantenkittel,Laborausstattung,Leute,Lösungen,Mischungen,OP-Handschuhe,OP-Mundschutz,Teströhren,Wissenschaften"/>
          <p:cNvPicPr/>
          <p:nvPr/>
        </p:nvPicPr>
        <p:blipFill>
          <a:blip r:embed="rId3"/>
          <a:stretch/>
        </p:blipFill>
        <p:spPr>
          <a:xfrm>
            <a:off x="6505560" y="2833560"/>
            <a:ext cx="2151000" cy="21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80700-162A-40A8-A57B-8A25053CDF7D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8dba"/>
                </a:solidFill>
                <a:latin typeface="Arial"/>
              </a:rPr>
              <a:t>STED- What is it?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2a8dba"/>
                </a:solidFill>
                <a:latin typeface="Arial"/>
              </a:rPr>
              <a:t>STED = </a:t>
            </a:r>
            <a:r>
              <a:rPr b="1" lang="de-DE" sz="2200" spc="-1" strike="noStrike" u="sng">
                <a:solidFill>
                  <a:srgbClr val="2a8dba"/>
                </a:solidFill>
                <a:uFillTx/>
                <a:latin typeface="Arial"/>
              </a:rPr>
              <a:t>S</a:t>
            </a:r>
            <a:r>
              <a:rPr b="1" lang="de-DE" sz="2200" spc="-1" strike="noStrike">
                <a:solidFill>
                  <a:srgbClr val="2a8dba"/>
                </a:solidFill>
                <a:latin typeface="Arial"/>
              </a:rPr>
              <a:t>ummary </a:t>
            </a:r>
            <a:r>
              <a:rPr b="1" lang="de-DE" sz="2200" spc="-1" strike="noStrike" u="sng">
                <a:solidFill>
                  <a:srgbClr val="2a8dba"/>
                </a:solidFill>
                <a:uFillTx/>
                <a:latin typeface="Arial"/>
              </a:rPr>
              <a:t>Te</a:t>
            </a:r>
            <a:r>
              <a:rPr b="1" lang="de-DE" sz="2200" spc="-1" strike="noStrike">
                <a:solidFill>
                  <a:srgbClr val="2a8dba"/>
                </a:solidFill>
                <a:latin typeface="Arial"/>
              </a:rPr>
              <a:t>chnical </a:t>
            </a:r>
            <a:r>
              <a:rPr b="1" lang="de-DE" sz="2200" spc="-1" strike="noStrike" u="sng">
                <a:solidFill>
                  <a:srgbClr val="2a8dba"/>
                </a:solidFill>
                <a:uFillTx/>
                <a:latin typeface="Arial"/>
              </a:rPr>
              <a:t>D</a:t>
            </a:r>
            <a:r>
              <a:rPr b="1" lang="de-DE" sz="2200" spc="-1" strike="noStrike">
                <a:solidFill>
                  <a:srgbClr val="2a8dba"/>
                </a:solidFill>
                <a:latin typeface="Arial"/>
              </a:rPr>
              <a:t>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ED does not represent the full technical documentation which is controlled under the Qualit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D should be in a language acceptable to the reviewing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th and detail may be dependant on classification and risk, whether it is novel technology or already mark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ED represents a subset of documents which provides sufficient evidence for a regulatory body to confirm conformity to the essential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ED reflects the status of the device at the time of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D has been developed for IVD Medical Devices and all other Medical Devices (separate docu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A59B-FACA-4AA1-BF09-749FB6678CF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a8dba"/>
                </a:solidFill>
                <a:latin typeface="Arial"/>
              </a:rPr>
              <a:t>STED = </a:t>
            </a:r>
            <a:r>
              <a:rPr b="1" lang="de-DE" sz="1800" spc="-1" strike="noStrike" u="sng">
                <a:solidFill>
                  <a:srgbClr val="2a8dba"/>
                </a:solidFill>
                <a:uFillTx/>
                <a:latin typeface="Arial"/>
              </a:rPr>
              <a:t>S</a:t>
            </a:r>
            <a:r>
              <a:rPr b="1" lang="de-DE" sz="1800" spc="-1" strike="noStrike">
                <a:solidFill>
                  <a:srgbClr val="2a8dba"/>
                </a:solidFill>
                <a:latin typeface="Arial"/>
              </a:rPr>
              <a:t>ummary </a:t>
            </a:r>
            <a:r>
              <a:rPr b="1" lang="de-DE" sz="1800" spc="-1" strike="noStrike" u="sng">
                <a:solidFill>
                  <a:srgbClr val="2a8dba"/>
                </a:solidFill>
                <a:uFillTx/>
                <a:latin typeface="Arial"/>
              </a:rPr>
              <a:t>Te</a:t>
            </a:r>
            <a:r>
              <a:rPr b="1" lang="de-DE" sz="1800" spc="-1" strike="noStrike">
                <a:solidFill>
                  <a:srgbClr val="2a8dba"/>
                </a:solidFill>
                <a:latin typeface="Arial"/>
              </a:rPr>
              <a:t>chnical </a:t>
            </a:r>
            <a:r>
              <a:rPr b="1" lang="de-DE" sz="1800" spc="-1" strike="noStrike" u="sng">
                <a:solidFill>
                  <a:srgbClr val="2a8dba"/>
                </a:solidFill>
                <a:uFillTx/>
                <a:latin typeface="Arial"/>
              </a:rPr>
              <a:t>D</a:t>
            </a:r>
            <a:r>
              <a:rPr b="1" lang="de-DE" sz="1800" spc="-1" strike="noStrike">
                <a:solidFill>
                  <a:srgbClr val="2a8dba"/>
                </a:solidFill>
                <a:latin typeface="Arial"/>
              </a:rPr>
              <a:t>ocumentation</a:t>
            </a:r>
            <a:endParaRPr b="0" lang="en-US" sz="18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8600" indent="-2271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cal documentation is to be prepared for all IVDs accord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G1(PD)/N06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ED submission and review by the authorities not required for Class A and B, but if in justified cases may be submitted on requ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ED review by the authorities for Class C and D,                               based on risk of the products and experience of the                         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>
            <a:lum bright="12000"/>
          </a:blip>
          <a:srcRect l="24257" t="0" r="47486" b="0"/>
          <a:stretch/>
        </p:blipFill>
        <p:spPr>
          <a:xfrm>
            <a:off x="7010280" y="2895480"/>
            <a:ext cx="1479600" cy="314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7B8B-D44C-4075-BE48-F483389101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6d6"/>
                </a:solidFill>
                <a:latin typeface="Arial"/>
              </a:rPr>
              <a:t>Why was it developed?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93560" y="212724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8600" indent="-22716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day, pre-market submission content and formats vary widely from country to country and from manufacturer to manufa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is approach can be time consuming for both the manufacturer and th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STED document represents the best practice for a regulator to assess the conformity to the Essential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Ausdrücke,Büros,Flüstern,Fotos,Frauen,Geheimniskrämereien,Geheimnisse,Gesichter,Klatsch,Kollegen,Kommunikation,Leute,tratschen"/>
          <p:cNvPicPr/>
          <p:nvPr/>
        </p:nvPicPr>
        <p:blipFill>
          <a:blip r:embed="rId2"/>
          <a:stretch/>
        </p:blipFill>
        <p:spPr>
          <a:xfrm>
            <a:off x="6183360" y="165240"/>
            <a:ext cx="1927080" cy="192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DC83-0D9D-444F-8577-E23919AD11C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a8dba"/>
                </a:solidFill>
                <a:latin typeface="Arial"/>
              </a:rPr>
              <a:t>Content of STED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5920" y="1008000"/>
            <a:ext cx="7900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221400" indent="-22032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description and list of                                  specified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43160" indent="-220320">
              <a:spcAft>
                <a:spcPts val="675"/>
              </a:spcAft>
              <a:buClr>
                <a:srgbClr val="2a8d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cription of the product and intende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3160" indent="-220320">
              <a:spcAft>
                <a:spcPts val="675"/>
              </a:spcAft>
              <a:buClr>
                <a:srgbClr val="2a8d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ference to previous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1400" indent="-22032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t of labels, instruction of use in a language acceptabe to the Regulatory Authority or Conformity Assessment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1400" indent="-22032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mmary of technical documentation concerning design and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43160" indent="-220320">
              <a:spcAft>
                <a:spcPts val="675"/>
              </a:spcAft>
              <a:buClr>
                <a:srgbClr val="2a8d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fficient to allow the reviewer to obtain a general understanding of the manufactur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3160" indent="-220320">
              <a:spcAft>
                <a:spcPts val="675"/>
              </a:spcAft>
              <a:buClr>
                <a:srgbClr val="2a8d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entify the sites, where the activities are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Akten,Bürobedarf,Geschäfte,Manila,Ordner,Photographien"/>
          <p:cNvPicPr/>
          <p:nvPr/>
        </p:nvPicPr>
        <p:blipFill>
          <a:blip r:embed="rId2"/>
          <a:stretch/>
        </p:blipFill>
        <p:spPr>
          <a:xfrm>
            <a:off x="5794200" y="0"/>
            <a:ext cx="2548080" cy="25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5B55-57D6-46D4-8765-A7E5886129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a8dba"/>
                </a:solidFill>
                <a:latin typeface="Arial"/>
              </a:rPr>
              <a:t>Content of STED – cont‘d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8600" indent="-22716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sential principles of safety and performance check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7160">
              <a:spcAft>
                <a:spcPts val="675"/>
              </a:spcAft>
              <a:buClr>
                <a:srgbClr val="2a8d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ed to better understand how the manufacturer demonstrates conformity to essential principles for his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7160">
              <a:spcAft>
                <a:spcPts val="675"/>
              </a:spcAft>
              <a:buClr>
                <a:srgbClr val="2a8d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y reference specific standards, test reports, study reports, validation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7160">
              <a:spcAft>
                <a:spcPts val="675"/>
              </a:spcAft>
              <a:buClr>
                <a:srgbClr val="2a8d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ple table contained within the STED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spcAft>
                <a:spcPts val="9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mmary of risk analysis and mod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7160">
              <a:spcAft>
                <a:spcPts val="675"/>
              </a:spcAft>
              <a:buClr>
                <a:srgbClr val="2a8d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ed on recognized standards (ISO 14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Fotos,Frauen,Geschäftsideen,Gesten,Konzepte,Leute,Planung,Rahmen,Vorstellen"/>
          <p:cNvPicPr/>
          <p:nvPr/>
        </p:nvPicPr>
        <p:blipFill>
          <a:blip r:embed="rId2"/>
          <a:stretch/>
        </p:blipFill>
        <p:spPr>
          <a:xfrm>
            <a:off x="6276960" y="2868480"/>
            <a:ext cx="2647800" cy="264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5AA5B-44C3-4740-AE08-B9E9EDCA1DA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a8dba"/>
                </a:solidFill>
                <a:latin typeface="Arial"/>
              </a:rPr>
              <a:t>Content of STED – cont‘d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84280" y="1143000"/>
            <a:ext cx="83692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8600" indent="-2271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mmary of verification and validation studies – Performance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7160">
              <a:spcAft>
                <a:spcPts val="601"/>
              </a:spcAft>
              <a:buClr>
                <a:srgbClr val="2a8d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vel of detail will vary depending upon Class and complexity of th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7160">
              <a:spcAft>
                <a:spcPts val="601"/>
              </a:spcAft>
              <a:buClr>
                <a:srgbClr val="2a8d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tical Stud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-225720">
              <a:spcAft>
                <a:spcPts val="524"/>
              </a:spcAft>
              <a:buClr>
                <a:srgbClr val="2a8db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cimen ty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-225720">
              <a:spcAft>
                <a:spcPts val="524"/>
              </a:spcAft>
              <a:buClr>
                <a:srgbClr val="2a8db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-225720">
              <a:spcAft>
                <a:spcPts val="524"/>
              </a:spcAft>
              <a:buClr>
                <a:srgbClr val="2a8db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aceability of calibrators and control mat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-225720">
              <a:spcAft>
                <a:spcPts val="524"/>
              </a:spcAft>
              <a:buClr>
                <a:srgbClr val="2a8db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tical sensi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-225720">
              <a:spcAft>
                <a:spcPts val="524"/>
              </a:spcAft>
              <a:buClr>
                <a:srgbClr val="2a8db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tical specif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-225720">
              <a:spcAft>
                <a:spcPts val="524"/>
              </a:spcAft>
              <a:buClr>
                <a:srgbClr val="2a8db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asuring range of th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-225720">
              <a:spcAft>
                <a:spcPts val="524"/>
              </a:spcAft>
              <a:buClr>
                <a:srgbClr val="2a8db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lidation of assay cut-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7160">
              <a:spcAft>
                <a:spcPts val="601"/>
              </a:spcAft>
              <a:buClr>
                <a:srgbClr val="2a8d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ity (excluding specimen stabil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-225720">
              <a:spcAft>
                <a:spcPts val="524"/>
              </a:spcAft>
              <a:buClr>
                <a:srgbClr val="2a8db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laimed shelf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-225720">
              <a:spcAft>
                <a:spcPts val="524"/>
              </a:spcAft>
              <a:buClr>
                <a:srgbClr val="2a8db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use s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-225720">
              <a:spcAft>
                <a:spcPts val="524"/>
              </a:spcAft>
              <a:buClr>
                <a:srgbClr val="2a8db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hipping s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Adressdateien,Adressen,Akten,Büroausstattung,Bürobedarf,Büros,Dateikarten,Drehkarteien,Fotos,Geschäft,Geschäfte,Haushalte,Karteikarten,Schreibtischzubehör"/>
          <p:cNvPicPr/>
          <p:nvPr/>
        </p:nvPicPr>
        <p:blipFill>
          <a:blip r:embed="rId2"/>
          <a:stretch/>
        </p:blipFill>
        <p:spPr>
          <a:xfrm>
            <a:off x="5226120" y="256068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A5E6F-255C-417C-850A-7B723F24FF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a8dba"/>
                </a:solidFill>
                <a:latin typeface="Arial"/>
              </a:rPr>
              <a:t>Content of STED – cont‘d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53680" y="1300320"/>
            <a:ext cx="8234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624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oftware verification and vali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624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linical eviden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7160">
              <a:spcAft>
                <a:spcPts val="675"/>
              </a:spcAft>
              <a:buClr>
                <a:srgbClr val="2a8d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inical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-225720">
              <a:spcAft>
                <a:spcPts val="6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established assays literature to support the use of the assay is su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-225720">
              <a:spcAft>
                <a:spcPts val="60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new markers (first in the market) and no literature available, a study may be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7160">
              <a:spcAft>
                <a:spcPts val="675"/>
              </a:spcAft>
              <a:buClr>
                <a:srgbClr val="2a8db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inical Performance (or: performance evalu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436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Blut,Blutprobe,Blutproben,Briefe,Fläschchen,Fotos,Gesundheitswesen,Symbole"/>
          <p:cNvPicPr/>
          <p:nvPr/>
        </p:nvPicPr>
        <p:blipFill>
          <a:blip r:embed="rId2"/>
          <a:stretch/>
        </p:blipFill>
        <p:spPr>
          <a:xfrm>
            <a:off x="5950080" y="1258920"/>
            <a:ext cx="2760480" cy="276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D1BE6-F68F-476F-8D1D-8C6D91B636A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84280" y="139320"/>
            <a:ext cx="83836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a8dba"/>
                </a:solidFill>
                <a:latin typeface="Arial"/>
              </a:rPr>
              <a:t>Declaration of Conformity</a:t>
            </a:r>
            <a:endParaRPr b="0" lang="en-US" sz="2400" spc="-1" strike="noStrike">
              <a:solidFill>
                <a:srgbClr val="0096d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40880" y="1284120"/>
            <a:ext cx="789948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lvl="1" marL="212400" indent="-2109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 declaration made by the 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2400" indent="-2109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me and address of the responsible 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2400" indent="-2109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ntification of the device (product name, product number, GMDN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2400" indent="-2109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tement that the device complie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5160" indent="-210960">
              <a:spcAft>
                <a:spcPts val="601"/>
              </a:spcAft>
              <a:buClr>
                <a:srgbClr val="2a8dba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ssential Principles of Safe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25160" indent="-210960">
              <a:spcAft>
                <a:spcPts val="601"/>
              </a:spcAft>
              <a:buClr>
                <a:srgbClr val="2a8dba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lassification and Conformity Assessment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12400" indent="-2109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standards used in the Conformity Assessment                          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2400" indent="-2109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d and signed by the manufacturer (appropriate                   senior perso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2400" indent="-210960">
              <a:spcAft>
                <a:spcPts val="751"/>
              </a:spcAft>
              <a:buClr>
                <a:srgbClr val="2a8d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 be not part of the STED, but can be annexed t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240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240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Beruf,Daumen,Daumen nach oben,Fotografien,Frauen,Geschäftsfrauen,Gespräche,Gesten,Glückwünsche,ja,lächeln,OK,Personen,Zustimmung"/>
          <p:cNvPicPr/>
          <p:nvPr/>
        </p:nvPicPr>
        <p:blipFill>
          <a:blip r:embed="rId2"/>
          <a:stretch/>
        </p:blipFill>
        <p:spPr>
          <a:xfrm>
            <a:off x="6861240" y="2590920"/>
            <a:ext cx="1998720" cy="19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AF49-6167-4E91-94DA-D675075934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19:27:05Z</dcterms:created>
  <dc:creator>Brian Green</dc:creator>
  <dc:description/>
  <dc:language>en-US</dc:language>
  <cp:lastModifiedBy>Abbott GmbH &amp; Co. KG</cp:lastModifiedBy>
  <cp:lastPrinted>2005-01-21T06:21:56Z</cp:lastPrinted>
  <dcterms:modified xsi:type="dcterms:W3CDTF">2010-11-08T13:26:27Z</dcterms:modified>
  <cp:revision>622</cp:revision>
  <dc:subject/>
  <dc:title>PowerPoint Presentation</dc:title>
</cp:coreProperties>
</file>